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gif" ContentType="image/gif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media/image19.png" ContentType="image/png"/>
  <Override PartName="/ppt/media/image24.png" ContentType="image/png"/>
  <Override PartName="/ppt/media/image25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FEC-15AC-4DD1-BFEB-B8E64906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D90-2FF8-42A8-825A-13DF446F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7E5-9EC7-4FEB-8405-B792E84B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6BB-C1BA-4BD7-B335-AE0EC4C4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85E-3E74-4F89-A3B2-AD458A0D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7AE-70A1-4634-838D-1A726FC1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3E2-9C4B-4839-A676-79D790BA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BAC-AEB6-4F43-9665-B0398EFF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C34-B0BB-45D1-AA3F-E449893A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70F-D2EE-46F2-800A-DC0B046A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637-19D7-4211-93B6-4F08CF6B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618-4070-47D5-AC75-35EF8C2D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4630-B768-435E-93CF-C6DDEFAF31E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1.jpe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gi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3/Chimera_Apulia_Louvre_K36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it.wikipedia.org/wiki/Iliade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P2260151.JPG"/>
          <p:cNvPicPr/>
          <p:nvPr/>
        </p:nvPicPr>
        <p:blipFill>
          <a:blip r:embed="rId1"/>
          <a:stretch/>
        </p:blipFill>
        <p:spPr>
          <a:xfrm>
            <a:off x="287280" y="-12600"/>
            <a:ext cx="86058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CasellaDiTesto 2"/>
          <p:cNvSpPr/>
          <p:nvPr/>
        </p:nvSpPr>
        <p:spPr>
          <a:xfrm>
            <a:off x="1692360" y="404640"/>
            <a:ext cx="55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ff0000"/>
                </a:solidFill>
                <a:latin typeface="Arial"/>
              </a:rPr>
              <a:t>CHIMER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3" descr="chimera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09440" y="44280"/>
            <a:ext cx="7834320" cy="57531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0"/>
          <p:cNvSpPr/>
          <p:nvPr/>
        </p:nvSpPr>
        <p:spPr>
          <a:xfrm>
            <a:off x="-164520" y="5373720"/>
            <a:ext cx="61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I nuclei accelerati colpiscono i nuclei nel bersagl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7"/>
          <p:cNvSpPr/>
          <p:nvPr/>
        </p:nvSpPr>
        <p:spPr>
          <a:xfrm>
            <a:off x="34920" y="5888160"/>
            <a:ext cx="910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Le particelle prodotte nella reazione vengono emesse in tutte le dire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I rivelatori ne segnalano la presenza e misurano energia, velocità, angol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243080" y="255744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Berlin Sans FB Demi"/>
              </a:rPr>
              <a:t>1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548160" y="9018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Berlin Sans FB Demi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900000" y="16034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Berlin Sans FB Demi"/>
              </a:rPr>
              <a:t>688x2 rivel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6300720" y="115920"/>
            <a:ext cx="13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Berlin Sans FB Demi"/>
              </a:rPr>
              <a:t>176</a:t>
            </a:r>
            <a:r>
              <a:rPr b="1" lang="en-GB" sz="2400" spc="-1" strike="noStrike">
                <a:solidFill>
                  <a:srgbClr val="990000"/>
                </a:solidFill>
                <a:latin typeface="Berlin Sans FB Demi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5940360" y="1844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Berlin Sans FB Demi"/>
              </a:rPr>
              <a:t>504x2 rivel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4"/>
          <p:cNvSpPr/>
          <p:nvPr/>
        </p:nvSpPr>
        <p:spPr>
          <a:xfrm>
            <a:off x="6084720" y="907920"/>
            <a:ext cx="289080" cy="217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1"/>
          <p:cNvSpPr txBox="1"/>
          <p:nvPr/>
        </p:nvSpPr>
        <p:spPr>
          <a:xfrm>
            <a:off x="318960" y="117360"/>
            <a:ext cx="2381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IME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Text Box 27"/>
          <p:cNvSpPr/>
          <p:nvPr/>
        </p:nvSpPr>
        <p:spPr>
          <a:xfrm>
            <a:off x="3054240" y="1555920"/>
            <a:ext cx="1787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 flipH="1">
            <a:off x="468000" y="260280"/>
            <a:ext cx="7343640" cy="360036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8"/>
          <p:cNvGrpSpPr/>
          <p:nvPr/>
        </p:nvGrpSpPr>
        <p:grpSpPr>
          <a:xfrm>
            <a:off x="3924360" y="620640"/>
            <a:ext cx="2519280" cy="1513080"/>
            <a:chOff x="3924360" y="620640"/>
            <a:chExt cx="2519280" cy="1513080"/>
          </a:xfrm>
        </p:grpSpPr>
        <p:sp>
          <p:nvSpPr>
            <p:cNvPr id="272" name="Line 51"/>
            <p:cNvSpPr/>
            <p:nvPr/>
          </p:nvSpPr>
          <p:spPr>
            <a:xfrm>
              <a:off x="6227640" y="1052640"/>
              <a:ext cx="216000" cy="36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2"/>
            <p:cNvSpPr/>
            <p:nvPr/>
          </p:nvSpPr>
          <p:spPr>
            <a:xfrm flipV="1">
              <a:off x="6227640" y="620640"/>
              <a:ext cx="73080" cy="432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3"/>
            <p:cNvSpPr/>
            <p:nvPr/>
          </p:nvSpPr>
          <p:spPr>
            <a:xfrm flipH="1">
              <a:off x="5724360" y="1052640"/>
              <a:ext cx="503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4"/>
            <p:cNvSpPr/>
            <p:nvPr/>
          </p:nvSpPr>
          <p:spPr>
            <a:xfrm flipH="1">
              <a:off x="5148360" y="1052640"/>
              <a:ext cx="1079280" cy="1081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5"/>
            <p:cNvSpPr/>
            <p:nvPr/>
          </p:nvSpPr>
          <p:spPr>
            <a:xfrm flipH="1">
              <a:off x="3924360" y="1052640"/>
              <a:ext cx="2303280" cy="792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Line 28"/>
          <p:cNvSpPr/>
          <p:nvPr/>
        </p:nvSpPr>
        <p:spPr>
          <a:xfrm flipH="1">
            <a:off x="6227640" y="333360"/>
            <a:ext cx="1440000" cy="71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5"/>
          <p:cNvGrpSpPr/>
          <p:nvPr/>
        </p:nvGrpSpPr>
        <p:grpSpPr>
          <a:xfrm>
            <a:off x="2916360" y="0"/>
            <a:ext cx="6227640" cy="4105440"/>
            <a:chOff x="2916360" y="0"/>
            <a:chExt cx="6227640" cy="4105440"/>
          </a:xfrm>
        </p:grpSpPr>
        <p:pic>
          <p:nvPicPr>
            <p:cNvPr id="279" name="Picture 36" descr="PIC00026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6227640" cy="41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7"/>
            <p:cNvSpPr/>
            <p:nvPr/>
          </p:nvSpPr>
          <p:spPr>
            <a:xfrm>
              <a:off x="4993200" y="2655000"/>
              <a:ext cx="4532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8"/>
            <p:cNvSpPr/>
            <p:nvPr/>
          </p:nvSpPr>
          <p:spPr>
            <a:xfrm>
              <a:off x="7587720" y="1771200"/>
              <a:ext cx="6480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46" descr="_MG_6272"/>
          <p:cNvPicPr/>
          <p:nvPr/>
        </p:nvPicPr>
        <p:blipFill>
          <a:blip r:embed="rId3"/>
          <a:stretch/>
        </p:blipFill>
        <p:spPr>
          <a:xfrm>
            <a:off x="36360" y="378936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_MG_6282"/>
          <p:cNvPicPr/>
          <p:nvPr/>
        </p:nvPicPr>
        <p:blipFill>
          <a:blip r:embed="rId4"/>
          <a:stretch/>
        </p:blipFill>
        <p:spPr>
          <a:xfrm>
            <a:off x="3059280" y="2708280"/>
            <a:ext cx="59911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himera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09440" y="44280"/>
            <a:ext cx="7834320" cy="57531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3"/>
          <p:cNvSpPr/>
          <p:nvPr/>
        </p:nvSpPr>
        <p:spPr>
          <a:xfrm>
            <a:off x="-164520" y="5373720"/>
            <a:ext cx="61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I nuclei accelerati colpiscono i nuclei nel bersagl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4920" y="5888160"/>
            <a:ext cx="910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Le particelle prodotte nella reazione vengono emesse in tutte le dire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I rivelatori ne segnalano la presenza e misurano energia, velocità, angol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43080" y="255744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Berlin Sans FB Demi"/>
              </a:rPr>
              <a:t>1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548160" y="9018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Berlin Sans FB Demi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85800" y="1405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Berlin Sans FB Demi"/>
              </a:rPr>
              <a:t>688x2 rivel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6300720" y="115920"/>
            <a:ext cx="13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Berlin Sans FB Demi"/>
              </a:rPr>
              <a:t>176</a:t>
            </a:r>
            <a:r>
              <a:rPr b="1" lang="en-GB" sz="2400" spc="-1" strike="noStrike">
                <a:solidFill>
                  <a:srgbClr val="990000"/>
                </a:solidFill>
                <a:latin typeface="Berlin Sans FB Demi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5797440" y="2054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Berlin Sans FB Demi"/>
              </a:rPr>
              <a:t>504x2 rivel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6084720" y="907920"/>
            <a:ext cx="289080" cy="217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11"/>
          <p:cNvSpPr txBox="1"/>
          <p:nvPr/>
        </p:nvSpPr>
        <p:spPr>
          <a:xfrm>
            <a:off x="318960" y="117360"/>
            <a:ext cx="2381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IME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3054240" y="1555920"/>
            <a:ext cx="1787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 flipH="1">
            <a:off x="468000" y="260280"/>
            <a:ext cx="7343640" cy="360036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4"/>
          <p:cNvGrpSpPr/>
          <p:nvPr/>
        </p:nvGrpSpPr>
        <p:grpSpPr>
          <a:xfrm>
            <a:off x="3924360" y="620640"/>
            <a:ext cx="2519280" cy="1513080"/>
            <a:chOff x="3924360" y="620640"/>
            <a:chExt cx="2519280" cy="1513080"/>
          </a:xfrm>
        </p:grpSpPr>
        <p:sp>
          <p:nvSpPr>
            <p:cNvPr id="297" name="Line 15"/>
            <p:cNvSpPr/>
            <p:nvPr/>
          </p:nvSpPr>
          <p:spPr>
            <a:xfrm>
              <a:off x="6227640" y="1052640"/>
              <a:ext cx="216000" cy="36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 flipV="1">
              <a:off x="6227640" y="620640"/>
              <a:ext cx="73080" cy="432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 flipH="1">
              <a:off x="5724360" y="1052640"/>
              <a:ext cx="503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 flipH="1">
              <a:off x="5148360" y="1052640"/>
              <a:ext cx="1079280" cy="1081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9"/>
            <p:cNvSpPr/>
            <p:nvPr/>
          </p:nvSpPr>
          <p:spPr>
            <a:xfrm flipH="1">
              <a:off x="3924360" y="1052640"/>
              <a:ext cx="2303280" cy="792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Line 20"/>
          <p:cNvSpPr/>
          <p:nvPr/>
        </p:nvSpPr>
        <p:spPr>
          <a:xfrm flipH="1">
            <a:off x="6227640" y="333360"/>
            <a:ext cx="1440000" cy="71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3" descr="_MG_6282"/>
          <p:cNvPicPr/>
          <p:nvPr/>
        </p:nvPicPr>
        <p:blipFill>
          <a:blip r:embed="rId1"/>
          <a:stretch/>
        </p:blipFill>
        <p:spPr>
          <a:xfrm>
            <a:off x="179280" y="333360"/>
            <a:ext cx="8820360" cy="58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2" descr="_MG_6272"/>
          <p:cNvPicPr/>
          <p:nvPr/>
        </p:nvPicPr>
        <p:blipFill>
          <a:blip r:embed="rId1"/>
          <a:stretch/>
        </p:blipFill>
        <p:spPr>
          <a:xfrm>
            <a:off x="106200" y="498600"/>
            <a:ext cx="8929800" cy="595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-108000" y="1197000"/>
            <a:ext cx="9433080" cy="5327280"/>
            <a:chOff x="-108000" y="1197000"/>
            <a:chExt cx="9433080" cy="5327280"/>
          </a:xfrm>
        </p:grpSpPr>
        <p:grpSp>
          <p:nvGrpSpPr>
            <p:cNvPr id="306" name="Group 3"/>
            <p:cNvGrpSpPr/>
            <p:nvPr/>
          </p:nvGrpSpPr>
          <p:grpSpPr>
            <a:xfrm>
              <a:off x="-108000" y="1197000"/>
              <a:ext cx="9433080" cy="5311800"/>
              <a:chOff x="-108000" y="1197000"/>
              <a:chExt cx="9433080" cy="5311800"/>
            </a:xfrm>
          </p:grpSpPr>
          <p:pic>
            <p:nvPicPr>
              <p:cNvPr id="307" name="Picture 4" descr=""/>
              <p:cNvPicPr/>
              <p:nvPr/>
            </p:nvPicPr>
            <p:blipFill>
              <a:blip r:embed="rId1"/>
              <a:srcRect l="7204" t="22518" r="0" b="8491"/>
              <a:stretch/>
            </p:blipFill>
            <p:spPr>
              <a:xfrm>
                <a:off x="787320" y="1197000"/>
                <a:ext cx="7672320" cy="45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5" descr="125px-Flag_of_Greece_svg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4437000"/>
                <a:ext cx="255600" cy="196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9" name="Group 6"/>
              <p:cNvGrpSpPr/>
              <p:nvPr/>
            </p:nvGrpSpPr>
            <p:grpSpPr>
              <a:xfrm>
                <a:off x="-108000" y="1844640"/>
                <a:ext cx="9433080" cy="4664160"/>
                <a:chOff x="-108000" y="1844640"/>
                <a:chExt cx="9433080" cy="4664160"/>
              </a:xfrm>
            </p:grpSpPr>
            <p:sp>
              <p:nvSpPr>
                <p:cNvPr id="310" name="Text Box 7"/>
                <p:cNvSpPr/>
                <p:nvPr/>
              </p:nvSpPr>
              <p:spPr>
                <a:xfrm>
                  <a:off x="3851280" y="4942080"/>
                  <a:ext cx="173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ffff00"/>
                      </a:solidFill>
                      <a:latin typeface="Times New Roman"/>
                    </a:rPr>
                    <a:t>   </a:t>
                  </a:r>
                  <a:r>
                    <a:rPr b="1" lang="it-IT" sz="2000" spc="-1" strike="noStrike">
                      <a:solidFill>
                        <a:srgbClr val="f9fd5f"/>
                      </a:solidFill>
                      <a:latin typeface="Times New Roman"/>
                    </a:rPr>
                    <a:t>CHIMER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1" name="Picture 8" descr="polo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000" y="1844640"/>
                  <a:ext cx="270000" cy="19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Text Box 9"/>
                <p:cNvSpPr/>
                <p:nvPr/>
              </p:nvSpPr>
              <p:spPr>
                <a:xfrm>
                  <a:off x="0" y="2709720"/>
                  <a:ext cx="684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0000"/>
                      </a:solidFill>
                      <a:latin typeface="Garamond"/>
                    </a:rPr>
                    <a:t>MS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3" name="Picture 10" descr="i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851280" y="3861000"/>
                  <a:ext cx="2239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Picture 11" descr="ita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64000" y="3357720"/>
                  <a:ext cx="22392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Picture 12" descr="ita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140360" y="3573360"/>
                  <a:ext cx="22680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13" descr="polo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64000" y="2494080"/>
                  <a:ext cx="273240" cy="19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14" descr="polo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6720" y="2276640"/>
                  <a:ext cx="27324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15" descr="roma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00720" y="3645000"/>
                  <a:ext cx="255600" cy="19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16" descr="germa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708360" y="2421000"/>
                  <a:ext cx="28728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17" descr="125px-Flag_of_Croatia_sv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716360" y="3357720"/>
                  <a:ext cx="335160" cy="19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18" descr="125px-Flag_of_France_sv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627280" y="2637000"/>
                  <a:ext cx="25884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19" descr="125px-Flag_of_France_sv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268360" y="2637000"/>
                  <a:ext cx="25884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20" descr="125px-Flag_of_France_sv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87640" y="3284640"/>
                  <a:ext cx="25560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21" descr="ita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427640" y="4294080"/>
                  <a:ext cx="223560" cy="19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22" descr="125px-Flag_of_the_United_States_sv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9280" y="2997360"/>
                  <a:ext cx="32076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23" descr="125px-Flag_of_the_United_States_sv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79280" y="4149720"/>
                  <a:ext cx="32400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24" descr="125px-Flag_of_India_sv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459640" y="6310440"/>
                  <a:ext cx="25884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25" descr="125px-Flag_of_the_People%27s_Republic_of_China_sv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604360" y="3141720"/>
                  <a:ext cx="25560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6" descr="flag003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4211640" y="5229360"/>
                  <a:ext cx="896760" cy="64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Text Box 27"/>
                <p:cNvSpPr/>
                <p:nvPr/>
              </p:nvSpPr>
              <p:spPr>
                <a:xfrm>
                  <a:off x="-108000" y="3861000"/>
                  <a:ext cx="1008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0000"/>
                      </a:solidFill>
                      <a:latin typeface="Garamond"/>
                    </a:rPr>
                    <a:t>Roches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28"/>
                <p:cNvSpPr/>
                <p:nvPr/>
              </p:nvSpPr>
              <p:spPr>
                <a:xfrm>
                  <a:off x="8317080" y="2852640"/>
                  <a:ext cx="100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0000"/>
                      </a:solidFill>
                      <a:latin typeface="Garamond"/>
                    </a:rPr>
                    <a:t>Lanzho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Text Box 29"/>
                <p:cNvSpPr/>
                <p:nvPr/>
              </p:nvSpPr>
              <p:spPr>
                <a:xfrm>
                  <a:off x="8028000" y="6021360"/>
                  <a:ext cx="100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0000"/>
                      </a:solidFill>
                      <a:latin typeface="Garamond"/>
                    </a:rPr>
                    <a:t>Calcut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0"/>
            <p:cNvGrpSpPr/>
            <p:nvPr/>
          </p:nvGrpSpPr>
          <p:grpSpPr>
            <a:xfrm>
              <a:off x="468360" y="2203560"/>
              <a:ext cx="8137440" cy="4320720"/>
              <a:chOff x="468360" y="2203560"/>
              <a:chExt cx="8137440" cy="4320720"/>
            </a:xfrm>
          </p:grpSpPr>
          <p:sp>
            <p:nvSpPr>
              <p:cNvPr id="334" name="Line 31"/>
              <p:cNvSpPr/>
              <p:nvPr/>
            </p:nvSpPr>
            <p:spPr>
              <a:xfrm flipH="1">
                <a:off x="4716360" y="2635200"/>
                <a:ext cx="433440" cy="2440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2"/>
              <p:cNvSpPr/>
              <p:nvPr/>
            </p:nvSpPr>
            <p:spPr>
              <a:xfrm flipH="1">
                <a:off x="4860720" y="3932280"/>
                <a:ext cx="1368360" cy="1089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3"/>
              <p:cNvSpPr/>
              <p:nvPr/>
            </p:nvSpPr>
            <p:spPr>
              <a:xfrm flipH="1">
                <a:off x="4861080" y="2851200"/>
                <a:ext cx="720720" cy="2182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34"/>
              <p:cNvSpPr/>
              <p:nvPr/>
            </p:nvSpPr>
            <p:spPr>
              <a:xfrm flipH="1">
                <a:off x="4789080" y="2203560"/>
                <a:ext cx="647640" cy="2828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5"/>
              <p:cNvSpPr/>
              <p:nvPr/>
            </p:nvSpPr>
            <p:spPr>
              <a:xfrm flipH="1">
                <a:off x="4861080" y="3427560"/>
                <a:ext cx="3744720" cy="1657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6"/>
              <p:cNvSpPr/>
              <p:nvPr/>
            </p:nvSpPr>
            <p:spPr>
              <a:xfrm flipH="1" flipV="1">
                <a:off x="4789080" y="5155920"/>
                <a:ext cx="3600360" cy="1368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7"/>
              <p:cNvSpPr/>
              <p:nvPr/>
            </p:nvSpPr>
            <p:spPr>
              <a:xfrm>
                <a:off x="4573440" y="4651200"/>
                <a:ext cx="0" cy="289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8"/>
              <p:cNvSpPr/>
              <p:nvPr/>
            </p:nvSpPr>
            <p:spPr>
              <a:xfrm>
                <a:off x="2413080" y="2924280"/>
                <a:ext cx="1871640" cy="2087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39"/>
              <p:cNvSpPr/>
              <p:nvPr/>
            </p:nvSpPr>
            <p:spPr>
              <a:xfrm>
                <a:off x="541440" y="3211560"/>
                <a:ext cx="3743280" cy="180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0"/>
              <p:cNvSpPr/>
              <p:nvPr/>
            </p:nvSpPr>
            <p:spPr>
              <a:xfrm>
                <a:off x="468360" y="4363920"/>
                <a:ext cx="3816360" cy="72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41"/>
              <p:cNvSpPr/>
              <p:nvPr/>
            </p:nvSpPr>
            <p:spPr>
              <a:xfrm>
                <a:off x="3708360" y="3716280"/>
                <a:ext cx="649440" cy="1295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42"/>
              <p:cNvSpPr/>
              <p:nvPr/>
            </p:nvSpPr>
            <p:spPr>
              <a:xfrm>
                <a:off x="3852720" y="2779560"/>
                <a:ext cx="576360" cy="2087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3"/>
              <p:cNvSpPr/>
              <p:nvPr/>
            </p:nvSpPr>
            <p:spPr>
              <a:xfrm>
                <a:off x="3205080" y="3643200"/>
                <a:ext cx="1079640" cy="1297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44"/>
              <p:cNvSpPr/>
              <p:nvPr/>
            </p:nvSpPr>
            <p:spPr>
              <a:xfrm>
                <a:off x="2700360" y="2924280"/>
                <a:ext cx="1584360" cy="2087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45"/>
              <p:cNvSpPr/>
              <p:nvPr/>
            </p:nvSpPr>
            <p:spPr>
              <a:xfrm>
                <a:off x="3997440" y="4148280"/>
                <a:ext cx="431640" cy="79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46"/>
              <p:cNvSpPr/>
              <p:nvPr/>
            </p:nvSpPr>
            <p:spPr>
              <a:xfrm>
                <a:off x="4284720" y="3859200"/>
                <a:ext cx="216000" cy="1008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47"/>
              <p:cNvSpPr/>
              <p:nvPr/>
            </p:nvSpPr>
            <p:spPr>
              <a:xfrm flipH="1">
                <a:off x="4789080" y="4508640"/>
                <a:ext cx="934920" cy="618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Text Box 48"/>
          <p:cNvSpPr/>
          <p:nvPr/>
        </p:nvSpPr>
        <p:spPr>
          <a:xfrm>
            <a:off x="34920" y="1270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Berlin Sans FB Demi"/>
              </a:rPr>
              <a:t>IL PROGETTO CHIMERA COINVOLGE UNA VASTA COLLABORAZIONE INTERN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9"/>
          <p:cNvSpPr/>
          <p:nvPr/>
        </p:nvSpPr>
        <p:spPr>
          <a:xfrm>
            <a:off x="34920" y="606744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Berlin Sans FB Demi"/>
              </a:rPr>
              <a:t>Grazie per l’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magine:Chimera Apulia Louvre K36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170160" cy="317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himera"/>
          <p:cNvPicPr/>
          <p:nvPr/>
        </p:nvPicPr>
        <p:blipFill>
          <a:blip r:embed="rId3"/>
          <a:stretch/>
        </p:blipFill>
        <p:spPr>
          <a:xfrm>
            <a:off x="250920" y="620640"/>
            <a:ext cx="3384360" cy="2940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68360" y="4076640"/>
            <a:ext cx="41767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« ... Era il mostro di origine divina,</a:t>
            </a:r>
            <a:br>
              <a:rPr sz="1800"/>
            </a:b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lïon la testa, il petto capra, e drago</a:t>
            </a:r>
            <a:br>
              <a:rPr sz="1800"/>
            </a:b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la coda; e dalla bocca orrende vampe</a:t>
            </a:r>
            <a:br>
              <a:rPr sz="1800"/>
            </a:b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vomitava di foco: e nondimeno,</a:t>
            </a:r>
            <a:br>
              <a:rPr sz="1800"/>
            </a:b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col favor degli Dei, l'eroe la spense..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(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Berlin Sans FB Demi"/>
                <a:hlinkClick r:id="rId4"/>
              </a:rPr>
              <a:t>Iliade</a:t>
            </a: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, VI, 180-184, trad. V. Mo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800" y="3816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Berlin Sans FB Demi"/>
              </a:rPr>
              <a:t>NELLA MITOLOGIA GREC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032360" y="563400"/>
            <a:ext cx="49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Creatura mostruosa, formata dall’insieme di tanti anim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Solo Bellerofonte riesce a sconfiggerla, con un astuto stratagem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Nel vocabolario di oggi una “chimera” è un’</a:t>
            </a:r>
            <a:r>
              <a:rPr b="1" lang="it-IT" sz="1800" spc="-1" strike="noStrike">
                <a:solidFill>
                  <a:srgbClr val="990000"/>
                </a:solidFill>
                <a:latin typeface="Berlin Sans FB Demi"/>
              </a:rPr>
              <a:t>idea quasi irrealizzabile</a:t>
            </a: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, un sogno, una utop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6480" y="61920"/>
            <a:ext cx="47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Berlin Sans FB Demi"/>
              </a:rPr>
              <a:t>… </a:t>
            </a:r>
            <a:r>
              <a:rPr b="1" lang="it-IT" sz="2400" spc="-1" strike="noStrike">
                <a:solidFill>
                  <a:srgbClr val="000099"/>
                </a:solidFill>
                <a:latin typeface="Berlin Sans FB Demi"/>
              </a:rPr>
              <a:t>E NELLA FISICA NUCLEA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108000" y="617400"/>
            <a:ext cx="8964720" cy="5548320"/>
            <a:chOff x="108000" y="617400"/>
            <a:chExt cx="8964720" cy="5548320"/>
          </a:xfrm>
        </p:grpSpPr>
        <p:sp>
          <p:nvSpPr>
            <p:cNvPr id="50" name="Text Box 5"/>
            <p:cNvSpPr/>
            <p:nvPr/>
          </p:nvSpPr>
          <p:spPr>
            <a:xfrm>
              <a:off x="108000" y="617400"/>
              <a:ext cx="8964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Berlin Sans FB Demi"/>
                </a:rPr>
                <a:t>Un complesso dispositivo in grado di rivelare i nuclei emessi in una reazione nucle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99"/>
                  </a:solidFill>
                  <a:latin typeface="Berlin Sans FB Demi"/>
                </a:rPr>
                <a:t>Attualmente è tra i </a:t>
              </a:r>
              <a:r>
                <a:rPr b="1" lang="it-IT" sz="1800" spc="-1" strike="noStrike">
                  <a:solidFill>
                    <a:srgbClr val="990000"/>
                  </a:solidFill>
                  <a:latin typeface="Berlin Sans FB Demi"/>
                </a:rPr>
                <a:t>migliori al mondo</a:t>
              </a:r>
              <a:r>
                <a:rPr b="1" lang="it-IT" sz="1800" spc="-1" strike="noStrike">
                  <a:solidFill>
                    <a:srgbClr val="000099"/>
                  </a:solidFill>
                  <a:latin typeface="Berlin Sans FB Demi"/>
                </a:rPr>
                <a:t> per la ricerca nel campo della fisica nucleare alle energie intermed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10" descr="P2260151.JPG"/>
            <p:cNvPicPr/>
            <p:nvPr/>
          </p:nvPicPr>
          <p:blipFill>
            <a:blip r:embed="rId1"/>
            <a:stretch/>
          </p:blipFill>
          <p:spPr>
            <a:xfrm>
              <a:off x="3095640" y="1807920"/>
              <a:ext cx="5457960" cy="435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13"/>
          <p:cNvSpPr/>
          <p:nvPr/>
        </p:nvSpPr>
        <p:spPr>
          <a:xfrm>
            <a:off x="468360" y="1989000"/>
            <a:ext cx="223200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Berlin Sans FB Demi"/>
              </a:rPr>
              <a:t>C</a:t>
            </a:r>
            <a:r>
              <a:rPr b="1" i="1" lang="it-IT" sz="2800" spc="-1" strike="noStrike">
                <a:solidFill>
                  <a:srgbClr val="0000ff"/>
                </a:solidFill>
                <a:latin typeface="Berlin Sans FB Demi"/>
              </a:rPr>
              <a:t>harged</a:t>
            </a:r>
            <a:r>
              <a:rPr b="1" i="1" lang="it-IT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Berlin Sans FB Demi"/>
              </a:rPr>
              <a:t>H</a:t>
            </a:r>
            <a:r>
              <a:rPr b="1" i="1" lang="it-IT" sz="2800" spc="-1" strike="noStrike">
                <a:solidFill>
                  <a:srgbClr val="0000ff"/>
                </a:solidFill>
                <a:latin typeface="Berlin Sans FB Demi"/>
              </a:rPr>
              <a:t>eav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Berlin Sans FB Demi"/>
              </a:rPr>
              <a:t>I</a:t>
            </a:r>
            <a:r>
              <a:rPr b="1" i="1" lang="it-IT" sz="2800" spc="-1" strike="noStrike">
                <a:solidFill>
                  <a:srgbClr val="0000ff"/>
                </a:solidFill>
                <a:latin typeface="Berlin Sans FB Demi"/>
              </a:rPr>
              <a:t>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i="1" lang="it-IT" sz="2800" spc="-1" strike="noStrike">
                <a:solidFill>
                  <a:srgbClr val="0000ff"/>
                </a:solidFill>
                <a:latin typeface="Berlin Sans FB Demi"/>
              </a:rPr>
              <a:t>ass and</a:t>
            </a:r>
            <a:r>
              <a:rPr b="1" i="1" lang="it-IT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Berlin Sans FB Demi"/>
              </a:rPr>
              <a:t>E</a:t>
            </a:r>
            <a:r>
              <a:rPr b="1" i="1" lang="it-IT" sz="2800" spc="-1" strike="noStrike">
                <a:solidFill>
                  <a:srgbClr val="0000ff"/>
                </a:solidFill>
                <a:latin typeface="Berlin Sans FB Demi"/>
              </a:rPr>
              <a:t>nergy</a:t>
            </a:r>
            <a:r>
              <a:rPr b="1" i="1" lang="it-IT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Berlin Sans FB Demi"/>
              </a:rPr>
              <a:t>R</a:t>
            </a:r>
            <a:r>
              <a:rPr b="1" i="1" lang="it-IT" sz="2800" spc="-1" strike="noStrike">
                <a:solidFill>
                  <a:srgbClr val="0000ff"/>
                </a:solidFill>
                <a:latin typeface="Berlin Sans FB Demi"/>
              </a:rPr>
              <a:t>esolving</a:t>
            </a:r>
            <a:r>
              <a:rPr b="1" i="1" lang="it-IT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Berlin Sans FB Demi"/>
              </a:rPr>
              <a:t>A</a:t>
            </a:r>
            <a:r>
              <a:rPr b="1" i="1" lang="it-IT" sz="2800" spc="-1" strike="noStrike">
                <a:solidFill>
                  <a:srgbClr val="0000ff"/>
                </a:solidFill>
                <a:latin typeface="Berlin Sans FB Demi"/>
              </a:rPr>
              <a:t>rray</a:t>
            </a:r>
            <a:r>
              <a:rPr b="1" i="1" lang="it-IT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9" descr="Immagine"/>
          <p:cNvPicPr/>
          <p:nvPr/>
        </p:nvPicPr>
        <p:blipFill>
          <a:blip r:embed="rId1"/>
          <a:srcRect l="0" t="0" r="46849" b="58662"/>
          <a:stretch/>
        </p:blipFill>
        <p:spPr>
          <a:xfrm>
            <a:off x="2124000" y="907920"/>
            <a:ext cx="6120000" cy="2089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 rot="16190400">
            <a:off x="1705680" y="1951560"/>
            <a:ext cx="77760" cy="1050840"/>
          </a:xfrm>
          <a:prstGeom prst="downArrow">
            <a:avLst>
              <a:gd name="adj1" fmla="val 50000"/>
              <a:gd name="adj2" fmla="val 337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2133720" y="3048120"/>
            <a:ext cx="6247440" cy="3600000"/>
            <a:chOff x="2133720" y="3048120"/>
            <a:chExt cx="6247440" cy="3600000"/>
          </a:xfrm>
        </p:grpSpPr>
        <p:pic>
          <p:nvPicPr>
            <p:cNvPr id="56" name="Picture 5" descr="02"/>
            <p:cNvPicPr/>
            <p:nvPr/>
          </p:nvPicPr>
          <p:blipFill>
            <a:blip r:embed="rId2"/>
            <a:stretch/>
          </p:blipFill>
          <p:spPr>
            <a:xfrm>
              <a:off x="2133720" y="3048120"/>
              <a:ext cx="6181920" cy="35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6"/>
            <p:cNvSpPr/>
            <p:nvPr/>
          </p:nvSpPr>
          <p:spPr>
            <a:xfrm>
              <a:off x="6670080" y="6371640"/>
              <a:ext cx="171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LNS-INFN Cat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8"/>
          <p:cNvSpPr/>
          <p:nvPr/>
        </p:nvSpPr>
        <p:spPr>
          <a:xfrm>
            <a:off x="2362320" y="4419720"/>
            <a:ext cx="358560" cy="459720"/>
          </a:xfrm>
          <a:prstGeom prst="rect">
            <a:avLst/>
          </a:prstGeom>
          <a:solidFill>
            <a:srgbClr val="99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erlin Sans FB Dem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362320" y="1981080"/>
            <a:ext cx="358560" cy="459720"/>
          </a:xfrm>
          <a:prstGeom prst="rect">
            <a:avLst/>
          </a:prstGeom>
          <a:solidFill>
            <a:srgbClr val="99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erlin Sans FB Dem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800600" y="1905120"/>
            <a:ext cx="358920" cy="459720"/>
          </a:xfrm>
          <a:prstGeom prst="rect">
            <a:avLst/>
          </a:prstGeom>
          <a:solidFill>
            <a:srgbClr val="99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erlin Sans FB Dem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934320" y="3352680"/>
            <a:ext cx="358560" cy="459720"/>
          </a:xfrm>
          <a:prstGeom prst="rect">
            <a:avLst/>
          </a:prstGeom>
          <a:solidFill>
            <a:srgbClr val="99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erlin Sans FB Dem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72400" y="3352680"/>
            <a:ext cx="358920" cy="459720"/>
          </a:xfrm>
          <a:prstGeom prst="rect">
            <a:avLst/>
          </a:prstGeom>
          <a:solidFill>
            <a:srgbClr val="99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erlin Sans FB Dem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543800" y="2438280"/>
            <a:ext cx="358920" cy="459720"/>
          </a:xfrm>
          <a:prstGeom prst="rect">
            <a:avLst/>
          </a:prstGeom>
          <a:solidFill>
            <a:srgbClr val="99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erlin Sans FB Dem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6320" y="2057400"/>
            <a:ext cx="1371600" cy="86256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Sor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 </a:t>
            </a: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Ioni </a:t>
            </a:r>
            <a:r>
              <a:rPr b="1" lang="it-IT" sz="2000" spc="-1" strike="noStrike" baseline="30000">
                <a:solidFill>
                  <a:srgbClr val="000099"/>
                </a:solidFill>
                <a:latin typeface="Berlin Sans FB Demi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2556000" y="1268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124000" y="1341360"/>
            <a:ext cx="6121440" cy="1057680"/>
          </a:xfrm>
          <a:prstGeom prst="rect">
            <a:avLst/>
          </a:prstGeom>
          <a:solidFill>
            <a:srgbClr val="ff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Berlin Sans FB Demi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Berlin Sans FB Demi"/>
              </a:rPr>
              <a:t>V=0 Volt </a:t>
            </a:r>
            <a:r>
              <a:rPr b="1" lang="it-IT" sz="14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Berlin Sans FB Demi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Berlin Sans FB Demi"/>
              </a:rPr>
              <a:t>       V=15MVolt                                              V=0 Volt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Berlin Sans FB Demi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Berlin Sans FB Demi"/>
              </a:rPr>
              <a:t>q=-e                                              q=+ne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179280" y="4365720"/>
            <a:ext cx="172872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E=(n+1)*15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tom"/>
          <p:cNvPicPr/>
          <p:nvPr/>
        </p:nvPicPr>
        <p:blipFill>
          <a:blip r:embed="rId3"/>
          <a:stretch/>
        </p:blipFill>
        <p:spPr>
          <a:xfrm>
            <a:off x="1187280" y="2349360"/>
            <a:ext cx="216000" cy="200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0"/>
          <p:cNvSpPr/>
          <p:nvPr/>
        </p:nvSpPr>
        <p:spPr>
          <a:xfrm>
            <a:off x="6948360" y="765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ersa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4920" y="19080"/>
            <a:ext cx="9109080" cy="73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ACCELERATORE LINEARE “TANDE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Berlin Sans FB Demi"/>
              </a:rPr>
              <a:t>Laboratori Nazionali del Sud - Istituto Nazionale di Fisica Nucleare - Ca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037 L 0.13732 0.00555 L 0.22899 0.0037 L 0.37621 0.0037 L 0.54705 0.0037 L 0.6401 0.0037 L 0.71093 0.0037 L 0.72205 -0.01852 L 0.71927 -0.13334 L 0.71979 -0.15857 L 0.71875 -0.1794 L 0.71771 -0.19329 L 0.71875 -0.20301 E">
                                      <p:cBhvr>
                                        <p:cTn id="35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3"/>
          <p:cNvGrpSpPr/>
          <p:nvPr/>
        </p:nvGrpSpPr>
        <p:grpSpPr>
          <a:xfrm>
            <a:off x="395280" y="981000"/>
            <a:ext cx="6059520" cy="1981440"/>
            <a:chOff x="395280" y="981000"/>
            <a:chExt cx="6059520" cy="1981440"/>
          </a:xfrm>
        </p:grpSpPr>
        <p:pic>
          <p:nvPicPr>
            <p:cNvPr id="72" name="Picture 4" descr="ciclotron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60595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5"/>
            <p:cNvSpPr/>
            <p:nvPr/>
          </p:nvSpPr>
          <p:spPr>
            <a:xfrm>
              <a:off x="5273640" y="1644120"/>
              <a:ext cx="1142280" cy="733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808080"/>
                  </a:solidFill>
                  <a:latin typeface="Times New Roman"/>
                </a:rPr>
                <a:t>Direzione Campo Magne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6" descr="CS_inside"/>
          <p:cNvPicPr/>
          <p:nvPr/>
        </p:nvPicPr>
        <p:blipFill>
          <a:blip r:embed="rId2"/>
          <a:stretch/>
        </p:blipFill>
        <p:spPr>
          <a:xfrm>
            <a:off x="803160" y="3141720"/>
            <a:ext cx="3840120" cy="295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S_2000-01-25_e.JPG"/>
          <p:cNvPicPr/>
          <p:nvPr/>
        </p:nvPicPr>
        <p:blipFill>
          <a:blip r:embed="rId3"/>
          <a:stretch/>
        </p:blipFill>
        <p:spPr>
          <a:xfrm>
            <a:off x="4643280" y="3141720"/>
            <a:ext cx="3816360" cy="2952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8"/>
          <p:cNvGrpSpPr/>
          <p:nvPr/>
        </p:nvGrpSpPr>
        <p:grpSpPr>
          <a:xfrm>
            <a:off x="1835280" y="2709720"/>
            <a:ext cx="504360" cy="216000"/>
            <a:chOff x="1835280" y="2709720"/>
            <a:chExt cx="504360" cy="216000"/>
          </a:xfrm>
        </p:grpSpPr>
        <p:sp>
          <p:nvSpPr>
            <p:cNvPr id="77" name="Oval 9"/>
            <p:cNvSpPr/>
            <p:nvPr/>
          </p:nvSpPr>
          <p:spPr>
            <a:xfrm>
              <a:off x="1835280" y="2709720"/>
              <a:ext cx="50436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1918800" y="2753280"/>
              <a:ext cx="335520" cy="1256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36" h="106">
                  <a:moveTo>
                    <a:pt x="0" y="53"/>
                  </a:moveTo>
                  <a:cubicBezTo>
                    <a:pt x="15" y="26"/>
                    <a:pt x="31" y="0"/>
                    <a:pt x="46" y="8"/>
                  </a:cubicBezTo>
                  <a:cubicBezTo>
                    <a:pt x="61" y="16"/>
                    <a:pt x="76" y="92"/>
                    <a:pt x="91" y="99"/>
                  </a:cubicBezTo>
                  <a:cubicBezTo>
                    <a:pt x="106" y="106"/>
                    <a:pt x="129" y="61"/>
                    <a:pt x="136" y="53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6156360" y="907920"/>
                <a:ext cx="144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2"/>
              <p:cNvSpPr txBox="1"/>
              <p:nvPr/>
            </p:nvSpPr>
            <p:spPr>
              <a:xfrm>
                <a:off x="7667640" y="907920"/>
                <a:ext cx="144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1" name="Picture 13" descr="atom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2987640" y="1773360"/>
            <a:ext cx="216000" cy="199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Object 14"/>
              <p:cNvSpPr txBox="1"/>
              <p:nvPr/>
            </p:nvSpPr>
            <p:spPr>
              <a:xfrm>
                <a:off x="6588000" y="1557360"/>
                <a:ext cx="23050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Text Box 15"/>
          <p:cNvSpPr/>
          <p:nvPr/>
        </p:nvSpPr>
        <p:spPr>
          <a:xfrm>
            <a:off x="826920" y="9079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00"/>
                </a:solidFill>
                <a:latin typeface="Tahoma"/>
              </a:rPr>
              <a:t>Anno 19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324000" y="6237360"/>
            <a:ext cx="8640720" cy="74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00"/>
                </a:solidFill>
                <a:latin typeface="Berlin Sans FB Demi"/>
              </a:rPr>
              <a:t>E</a:t>
            </a:r>
            <a:r>
              <a:rPr b="1" lang="it-IT" sz="2000" spc="-1" strike="noStrike" baseline="-25000">
                <a:solidFill>
                  <a:srgbClr val="990000"/>
                </a:solidFill>
                <a:latin typeface="Berlin Sans FB Demi"/>
              </a:rPr>
              <a:t>MAX</a:t>
            </a:r>
            <a:r>
              <a:rPr b="1" lang="it-IT" sz="2000" spc="-1" strike="noStrike">
                <a:solidFill>
                  <a:srgbClr val="990000"/>
                </a:solidFill>
                <a:latin typeface="Berlin Sans FB Demi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Berlin Sans FB Demi"/>
                <a:ea typeface="Tahoma"/>
              </a:rPr>
              <a:t>~</a:t>
            </a:r>
            <a:r>
              <a:rPr b="1" lang="it-IT" sz="2000" spc="-1" strike="noStrike">
                <a:solidFill>
                  <a:srgbClr val="990000"/>
                </a:solidFill>
                <a:latin typeface="Berlin Sans FB Demi"/>
              </a:rPr>
              <a:t> 5000 MeV </a:t>
            </a:r>
            <a:r>
              <a:rPr b="1" lang="it-IT" sz="2000" spc="-1" strike="noStrike">
                <a:solidFill>
                  <a:srgbClr val="000099"/>
                </a:solidFill>
                <a:latin typeface="Berlin Sans FB Demi"/>
              </a:rPr>
              <a:t>velocità prossime ad un decimo della velocità della 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348000" y="1052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00"/>
                </a:solidFill>
                <a:latin typeface="Tahoma"/>
              </a:rPr>
              <a:t>G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34920" y="19080"/>
            <a:ext cx="9109080" cy="81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erlin Sans FB Demi"/>
              </a:rPr>
              <a:t>ACCELERATORE CICLOT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Berlin Sans FB Demi"/>
              </a:rPr>
              <a:t>Laboratori Nazionali del Sud - Istituto Nazionale di Fisica Nucleare - Ca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path" presetID="0" repeatCount="5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1441 -0.00093 L 0.025 0.00185 L 0.01875 0.00879 L -0.0158 0.01296 L -0.02708 0.00046 L -0.02396 -0.01343 L -0.00937 -0.01898 L 0.02396 -0.01343 L 0.04375 -0.01065 L 0.05313 0.00046 L 0.04479 0.01296 L 0.01441 0.02407 L -0.02604 0.02129 L -0.05833 0.01435 L -0.06875 -0.00093 L -0.06146 -0.01343 L -0.0375 -0.02593 L -0.01146 -0.03009 L 0.01441 -0.02732 L 0.04375 -0.02454 L 0.06771 -0.01759 L 0.08229 -0.01065 L 0.08646 0.00602 L 0.06771 0.02685 L 0.03334 0.03518 L -0.01458 0.04074 L -0.05729 0.03241 L -0.1 0.01296 L -0.09791 -0.01343 L -0.075 -0.02871 L -0.03541 -0.03982 L -0.00226 -0.04259 L 0.05938 -0.03704 L 0.10104 -0.02315 L 0.11667 -0.01065 L 0.11979 0.00602 L 0.10729 0.02685 L 0.07084 0.04352 L 0.00938 0.05185 L -0.03333 0.05185 L -0.08541 0.04074 L -0.13021 0.02129 L -0.13541 -0.00787 L -0.11666 -0.02871 L -0.08229 -0.04537 L -0.03958 -0.05371 L 0.02604 -0.05509 L 0.07188 -0.04954 L 0.12188 -0.03565 L 0.14792 -0.01759 L 0.15729 -0.00232 L 0.15313 0.01574 L 0.13854 0.02963 L 0.10938 0.04491 L 0.08646 0.05463 L 0.04584 0.06157 L 0.00313 0.06713 L -0.04791 0.06296 L -0.09583 0.05463 L -0.13437 0.04074 L -0.16354 0.02268 L -0.17291 -0.00232 L -0.15833 -0.02593 L -0.13333 -0.04398 L -0.08125 -0.05926 L -0.03437 -0.06759 L 0.03021 -0.06759 L 0.08021 -0.06204 L 0.13646 -0.04815 L 0.16979 -0.03148 L 0.18438 -0.01759 L 0.19167 -0.00648 L 0.18959 0.01018 L 0.18021 0.02685 L 0.16754 0.03935 L 0.13854 0.05463 L 0.10313 0.06713 L 0.07188 0.07268 L 0.02917 0.07685 L -0.02083 0.07824 L -0.07708 0.07268 L -0.13437 0.06018 L -0.16875 0.04491 L -0.2 0.02407 L -0.20521 -0.00093 L -0.19896 -0.02732 L -0.17396 -0.04954 L -0.14166 -0.07176 L -0.08646 -0.09259 L -0.02916 -0.10926 L 0.03021 -0.11759 L 0.09792 -0.12037 L 0.15399 -0.12315 L 0.20729 -0.12454 L 0.26771 -0.12593 E">
                                      <p:cBhvr>
                                        <p:cTn id="175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03280" y="1159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erlin Sans FB Demi"/>
              </a:rPr>
              <a:t>DIVERSI MECCANISMI DI RE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5"/>
          <p:cNvSpPr/>
          <p:nvPr/>
        </p:nvSpPr>
        <p:spPr>
          <a:xfrm>
            <a:off x="4267080" y="1197000"/>
            <a:ext cx="4953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808080"/>
                </a:solidFill>
                <a:latin typeface="Berlin Sans FB Demi"/>
              </a:rPr>
              <a:t>Basse energie</a:t>
            </a:r>
            <a:r>
              <a:rPr b="1" lang="it-IT" sz="1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(E/A &lt; 10 MeV/A), si forma un grande nucleo fuso molto caldo che si raffredda emettendo particelle leggere (p, n, d, t, </a:t>
            </a:r>
            <a:r>
              <a:rPr b="1" lang="it-IT" sz="16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, </a:t>
            </a:r>
            <a:r>
              <a:rPr b="1" lang="it-IT" sz="1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6"/>
          <p:cNvGrpSpPr/>
          <p:nvPr/>
        </p:nvGrpSpPr>
        <p:grpSpPr>
          <a:xfrm>
            <a:off x="347760" y="5062680"/>
            <a:ext cx="4003920" cy="1392480"/>
            <a:chOff x="347760" y="5062680"/>
            <a:chExt cx="4003920" cy="1392480"/>
          </a:xfrm>
        </p:grpSpPr>
        <p:sp>
          <p:nvSpPr>
            <p:cNvPr id="90" name="Oval 57"/>
            <p:cNvSpPr/>
            <p:nvPr/>
          </p:nvSpPr>
          <p:spPr>
            <a:xfrm>
              <a:off x="347760" y="5367600"/>
              <a:ext cx="533520" cy="53352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8"/>
            <p:cNvSpPr/>
            <p:nvPr/>
          </p:nvSpPr>
          <p:spPr>
            <a:xfrm>
              <a:off x="728640" y="5367600"/>
              <a:ext cx="533520" cy="53352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9"/>
            <p:cNvSpPr/>
            <p:nvPr/>
          </p:nvSpPr>
          <p:spPr>
            <a:xfrm>
              <a:off x="1338480" y="5596200"/>
              <a:ext cx="380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60"/>
            <p:cNvGrpSpPr/>
            <p:nvPr/>
          </p:nvGrpSpPr>
          <p:grpSpPr>
            <a:xfrm>
              <a:off x="2024280" y="5062680"/>
              <a:ext cx="1371960" cy="1295280"/>
              <a:chOff x="2024280" y="5062680"/>
              <a:chExt cx="1371960" cy="1295280"/>
            </a:xfrm>
          </p:grpSpPr>
          <p:grpSp>
            <p:nvGrpSpPr>
              <p:cNvPr id="94" name="Group 61"/>
              <p:cNvGrpSpPr/>
              <p:nvPr/>
            </p:nvGrpSpPr>
            <p:grpSpPr>
              <a:xfrm>
                <a:off x="2024280" y="5062680"/>
                <a:ext cx="990720" cy="990720"/>
                <a:chOff x="2024280" y="5062680"/>
                <a:chExt cx="990720" cy="990720"/>
              </a:xfrm>
            </p:grpSpPr>
            <p:sp>
              <p:nvSpPr>
                <p:cNvPr id="95" name="Oval 62"/>
                <p:cNvSpPr/>
                <p:nvPr/>
              </p:nvSpPr>
              <p:spPr>
                <a:xfrm>
                  <a:off x="2024280" y="5367600"/>
                  <a:ext cx="152640" cy="152280"/>
                </a:xfrm>
                <a:prstGeom prst="ellipse">
                  <a:avLst/>
                </a:prstGeom>
                <a:solidFill>
                  <a:srgbClr val="ffcc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Oval 63"/>
                <p:cNvSpPr/>
                <p:nvPr/>
              </p:nvSpPr>
              <p:spPr>
                <a:xfrm>
                  <a:off x="2024280" y="5672160"/>
                  <a:ext cx="152640" cy="152640"/>
                </a:xfrm>
                <a:prstGeom prst="ellipse">
                  <a:avLst/>
                </a:prstGeom>
                <a:solidFill>
                  <a:srgbClr val="0000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Oval 64"/>
                <p:cNvSpPr/>
                <p:nvPr/>
              </p:nvSpPr>
              <p:spPr>
                <a:xfrm>
                  <a:off x="2405520" y="5291280"/>
                  <a:ext cx="152280" cy="152280"/>
                </a:xfrm>
                <a:prstGeom prst="ellipse">
                  <a:avLst/>
                </a:prstGeom>
                <a:solidFill>
                  <a:srgbClr val="0000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65"/>
                <p:cNvSpPr/>
                <p:nvPr/>
              </p:nvSpPr>
              <p:spPr>
                <a:xfrm>
                  <a:off x="2710080" y="5519880"/>
                  <a:ext cx="152640" cy="152280"/>
                </a:xfrm>
                <a:prstGeom prst="ellipse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66"/>
                <p:cNvSpPr/>
                <p:nvPr/>
              </p:nvSpPr>
              <p:spPr>
                <a:xfrm>
                  <a:off x="2405520" y="5900760"/>
                  <a:ext cx="152280" cy="152640"/>
                </a:xfrm>
                <a:prstGeom prst="ellipse">
                  <a:avLst/>
                </a:prstGeom>
                <a:solidFill>
                  <a:srgbClr val="0000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Oval 67"/>
                <p:cNvSpPr/>
                <p:nvPr/>
              </p:nvSpPr>
              <p:spPr>
                <a:xfrm>
                  <a:off x="2786400" y="5824800"/>
                  <a:ext cx="152280" cy="152280"/>
                </a:xfrm>
                <a:prstGeom prst="ellipse">
                  <a:avLst/>
                </a:prstGeom>
                <a:solidFill>
                  <a:srgbClr val="0000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Oval 68"/>
                <p:cNvSpPr/>
                <p:nvPr/>
              </p:nvSpPr>
              <p:spPr>
                <a:xfrm>
                  <a:off x="2329200" y="5596200"/>
                  <a:ext cx="152280" cy="152280"/>
                </a:xfrm>
                <a:prstGeom prst="ellipse">
                  <a:avLst/>
                </a:prstGeom>
                <a:solidFill>
                  <a:srgbClr val="0000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9"/>
                <p:cNvSpPr/>
                <p:nvPr/>
              </p:nvSpPr>
              <p:spPr>
                <a:xfrm>
                  <a:off x="2862720" y="5214960"/>
                  <a:ext cx="152280" cy="152640"/>
                </a:xfrm>
                <a:prstGeom prst="ellipse">
                  <a:avLst/>
                </a:prstGeom>
                <a:solidFill>
                  <a:srgbClr val="0000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70"/>
                <p:cNvSpPr/>
                <p:nvPr/>
              </p:nvSpPr>
              <p:spPr>
                <a:xfrm>
                  <a:off x="2634120" y="5062680"/>
                  <a:ext cx="152280" cy="152280"/>
                </a:xfrm>
                <a:prstGeom prst="ellipse">
                  <a:avLst/>
                </a:prstGeom>
                <a:solidFill>
                  <a:srgbClr val="0000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4" name="AutoShape 71"/>
              <p:cNvCxnSpPr>
                <a:stCxn id="102" idx="5"/>
              </p:cNvCxnSpPr>
              <p:nvPr/>
            </p:nvCxnSpPr>
            <p:spPr>
              <a:xfrm flipH="1" rot="16200000">
                <a:off x="3144960" y="5192280"/>
                <a:ext cx="99000" cy="4039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5" name="AutoShape 72"/>
              <p:cNvCxnSpPr/>
              <p:nvPr/>
            </p:nvCxnSpPr>
            <p:spPr>
              <a:xfrm>
                <a:off x="3014640" y="5671800"/>
                <a:ext cx="305640" cy="22932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6" name="AutoShape 73"/>
              <p:cNvCxnSpPr/>
              <p:nvPr/>
            </p:nvCxnSpPr>
            <p:spPr>
              <a:xfrm>
                <a:off x="2709720" y="6129000"/>
                <a:ext cx="381960" cy="22932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07" name="Text Box 74"/>
            <p:cNvSpPr/>
            <p:nvPr/>
          </p:nvSpPr>
          <p:spPr>
            <a:xfrm>
              <a:off x="2895480" y="5996160"/>
              <a:ext cx="145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Berlin Sans FB Demi"/>
                </a:rPr>
                <a:t>Pioni e partice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Berlin Sans FB Demi"/>
                </a:rPr>
                <a:t>subnucle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11"/>
          <p:cNvGrpSpPr/>
          <p:nvPr/>
        </p:nvGrpSpPr>
        <p:grpSpPr>
          <a:xfrm>
            <a:off x="468360" y="751680"/>
            <a:ext cx="4064760" cy="1594800"/>
            <a:chOff x="468360" y="751680"/>
            <a:chExt cx="4064760" cy="1594800"/>
          </a:xfrm>
        </p:grpSpPr>
        <p:pic>
          <p:nvPicPr>
            <p:cNvPr id="109" name="Picture 106" descr=""/>
            <p:cNvPicPr/>
            <p:nvPr/>
          </p:nvPicPr>
          <p:blipFill>
            <a:blip r:embed="rId1"/>
            <a:stretch/>
          </p:blipFill>
          <p:spPr>
            <a:xfrm rot="1800000">
              <a:off x="3995640" y="1339920"/>
              <a:ext cx="505080" cy="26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92"/>
            <p:cNvGrpSpPr/>
            <p:nvPr/>
          </p:nvGrpSpPr>
          <p:grpSpPr>
            <a:xfrm>
              <a:off x="468360" y="1123920"/>
              <a:ext cx="3847320" cy="1222560"/>
              <a:chOff x="468360" y="1123920"/>
              <a:chExt cx="3847320" cy="1222560"/>
            </a:xfrm>
          </p:grpSpPr>
          <p:sp>
            <p:nvSpPr>
              <p:cNvPr id="111" name="Oval 93"/>
              <p:cNvSpPr/>
              <p:nvPr/>
            </p:nvSpPr>
            <p:spPr>
              <a:xfrm>
                <a:off x="468360" y="1149120"/>
                <a:ext cx="533520" cy="53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94"/>
              <p:cNvSpPr/>
              <p:nvPr/>
            </p:nvSpPr>
            <p:spPr>
              <a:xfrm>
                <a:off x="849240" y="1149120"/>
                <a:ext cx="533520" cy="533520"/>
              </a:xfrm>
              <a:prstGeom prst="ellips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5"/>
              <p:cNvSpPr/>
              <p:nvPr/>
            </p:nvSpPr>
            <p:spPr>
              <a:xfrm>
                <a:off x="1459080" y="1377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96"/>
              <p:cNvSpPr/>
              <p:nvPr/>
            </p:nvSpPr>
            <p:spPr>
              <a:xfrm>
                <a:off x="1891800" y="1887480"/>
                <a:ext cx="94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99"/>
                    </a:solidFill>
                    <a:latin typeface="Berlin Sans FB Demi"/>
                  </a:rPr>
                  <a:t>Nucle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99"/>
                    </a:solidFill>
                    <a:latin typeface="Berlin Sans FB Demi"/>
                  </a:rPr>
                  <a:t>Compo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7"/>
              <p:cNvSpPr/>
              <p:nvPr/>
            </p:nvSpPr>
            <p:spPr>
              <a:xfrm>
                <a:off x="2754360" y="1454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98"/>
              <p:cNvSpPr/>
              <p:nvPr/>
            </p:nvSpPr>
            <p:spPr>
              <a:xfrm>
                <a:off x="3363840" y="1149120"/>
                <a:ext cx="609840" cy="60984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99"/>
              <p:cNvSpPr/>
              <p:nvPr/>
            </p:nvSpPr>
            <p:spPr>
              <a:xfrm>
                <a:off x="3109320" y="1789200"/>
                <a:ext cx="120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99"/>
                    </a:solidFill>
                    <a:latin typeface="Berlin Sans FB Demi"/>
                  </a:rPr>
                  <a:t>Residuo di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Berlin Sans FB Dem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99"/>
                    </a:solidFill>
                    <a:latin typeface="Berlin Sans FB Demi"/>
                  </a:rPr>
                  <a:t>evaporazi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100"/>
              <p:cNvSpPr/>
              <p:nvPr/>
            </p:nvSpPr>
            <p:spPr>
              <a:xfrm>
                <a:off x="1979640" y="1123920"/>
                <a:ext cx="720720" cy="720720"/>
              </a:xfrm>
              <a:prstGeom prst="ellipse">
                <a:avLst/>
              </a:prstGeom>
              <a:blipFill rotWithShape="0">
                <a:blip r:embed="rId2">
                  <a:alphaModFix amt="88000"/>
                </a:blip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Oval 101"/>
            <p:cNvSpPr/>
            <p:nvPr/>
          </p:nvSpPr>
          <p:spPr>
            <a:xfrm>
              <a:off x="3348000" y="10522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02"/>
            <p:cNvSpPr/>
            <p:nvPr/>
          </p:nvSpPr>
          <p:spPr>
            <a:xfrm>
              <a:off x="3851280" y="979560"/>
              <a:ext cx="7308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03"/>
            <p:cNvSpPr/>
            <p:nvPr/>
          </p:nvSpPr>
          <p:spPr>
            <a:xfrm>
              <a:off x="4140360" y="177156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04"/>
            <p:cNvSpPr/>
            <p:nvPr/>
          </p:nvSpPr>
          <p:spPr>
            <a:xfrm>
              <a:off x="3203640" y="1339920"/>
              <a:ext cx="7308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05"/>
            <p:cNvSpPr/>
            <p:nvPr/>
          </p:nvSpPr>
          <p:spPr>
            <a:xfrm>
              <a:off x="3203640" y="170028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7" descr=""/>
            <p:cNvPicPr/>
            <p:nvPr/>
          </p:nvPicPr>
          <p:blipFill>
            <a:blip r:embed="rId3"/>
            <a:stretch/>
          </p:blipFill>
          <p:spPr>
            <a:xfrm rot="19740000">
              <a:off x="3492000" y="836280"/>
              <a:ext cx="385920" cy="20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13"/>
          <p:cNvGrpSpPr/>
          <p:nvPr/>
        </p:nvGrpSpPr>
        <p:grpSpPr>
          <a:xfrm>
            <a:off x="324000" y="2506680"/>
            <a:ext cx="3738240" cy="2148120"/>
            <a:chOff x="324000" y="2506680"/>
            <a:chExt cx="3738240" cy="2148120"/>
          </a:xfrm>
        </p:grpSpPr>
        <p:grpSp>
          <p:nvGrpSpPr>
            <p:cNvPr id="126" name="Group 75"/>
            <p:cNvGrpSpPr/>
            <p:nvPr/>
          </p:nvGrpSpPr>
          <p:grpSpPr>
            <a:xfrm>
              <a:off x="324000" y="3006720"/>
              <a:ext cx="3738240" cy="1648080"/>
              <a:chOff x="324000" y="3006720"/>
              <a:chExt cx="3738240" cy="1648080"/>
            </a:xfrm>
          </p:grpSpPr>
          <p:sp>
            <p:nvSpPr>
              <p:cNvPr id="127" name="Oval 76"/>
              <p:cNvSpPr/>
              <p:nvPr/>
            </p:nvSpPr>
            <p:spPr>
              <a:xfrm>
                <a:off x="704880" y="3083040"/>
                <a:ext cx="532800" cy="533520"/>
              </a:xfrm>
              <a:prstGeom prst="ellipse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77"/>
              <p:cNvSpPr/>
              <p:nvPr/>
            </p:nvSpPr>
            <p:spPr>
              <a:xfrm>
                <a:off x="324000" y="3083040"/>
                <a:ext cx="533160" cy="533520"/>
              </a:xfrm>
              <a:prstGeom prst="ellipse">
                <a:avLst/>
              </a:pr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78"/>
              <p:cNvSpPr/>
              <p:nvPr/>
            </p:nvSpPr>
            <p:spPr>
              <a:xfrm>
                <a:off x="1314360" y="331164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79"/>
              <p:cNvGrpSpPr/>
              <p:nvPr/>
            </p:nvGrpSpPr>
            <p:grpSpPr>
              <a:xfrm>
                <a:off x="1923840" y="3006720"/>
                <a:ext cx="838080" cy="838440"/>
                <a:chOff x="1923840" y="3006720"/>
                <a:chExt cx="838080" cy="838440"/>
              </a:xfrm>
            </p:grpSpPr>
            <p:sp>
              <p:nvSpPr>
                <p:cNvPr id="131" name="Oval 80"/>
                <p:cNvSpPr/>
                <p:nvPr/>
              </p:nvSpPr>
              <p:spPr>
                <a:xfrm>
                  <a:off x="1999800" y="3083040"/>
                  <a:ext cx="228600" cy="228600"/>
                </a:xfrm>
                <a:prstGeom prst="ellipse">
                  <a:avLst/>
                </a:prstGeom>
                <a:solidFill>
                  <a:srgbClr val="00cc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81"/>
                <p:cNvSpPr/>
                <p:nvPr/>
              </p:nvSpPr>
              <p:spPr>
                <a:xfrm>
                  <a:off x="1923840" y="3463920"/>
                  <a:ext cx="228600" cy="228600"/>
                </a:xfrm>
                <a:prstGeom prst="ellipse">
                  <a:avLst/>
                </a:prstGeom>
                <a:solidFill>
                  <a:srgbClr val="0000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82"/>
                <p:cNvSpPr/>
                <p:nvPr/>
              </p:nvSpPr>
              <p:spPr>
                <a:xfrm>
                  <a:off x="2381040" y="3159360"/>
                  <a:ext cx="228600" cy="228600"/>
                </a:xfrm>
                <a:prstGeom prst="ellipse">
                  <a:avLst/>
                </a:prstGeom>
                <a:solidFill>
                  <a:srgbClr val="9933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Oval 83"/>
                <p:cNvSpPr/>
                <p:nvPr/>
              </p:nvSpPr>
              <p:spPr>
                <a:xfrm>
                  <a:off x="2304720" y="3616560"/>
                  <a:ext cx="228600" cy="228600"/>
                </a:xfrm>
                <a:prstGeom prst="ellipse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Oval 84"/>
                <p:cNvSpPr/>
                <p:nvPr/>
              </p:nvSpPr>
              <p:spPr>
                <a:xfrm>
                  <a:off x="2228400" y="3387960"/>
                  <a:ext cx="76320" cy="759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85"/>
                <p:cNvSpPr/>
                <p:nvPr/>
              </p:nvSpPr>
              <p:spPr>
                <a:xfrm>
                  <a:off x="2609640" y="3463920"/>
                  <a:ext cx="75960" cy="76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86"/>
                <p:cNvSpPr/>
                <p:nvPr/>
              </p:nvSpPr>
              <p:spPr>
                <a:xfrm>
                  <a:off x="2152440" y="3768840"/>
                  <a:ext cx="75960" cy="76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Oval 87"/>
                <p:cNvSpPr/>
                <p:nvPr/>
              </p:nvSpPr>
              <p:spPr>
                <a:xfrm>
                  <a:off x="2685600" y="3083040"/>
                  <a:ext cx="76320" cy="76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88"/>
                <p:cNvSpPr/>
                <p:nvPr/>
              </p:nvSpPr>
              <p:spPr>
                <a:xfrm>
                  <a:off x="1923840" y="3311640"/>
                  <a:ext cx="75960" cy="76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89"/>
                <p:cNvSpPr/>
                <p:nvPr/>
              </p:nvSpPr>
              <p:spPr>
                <a:xfrm>
                  <a:off x="2381040" y="3006720"/>
                  <a:ext cx="75960" cy="76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90"/>
                <p:cNvSpPr/>
                <p:nvPr/>
              </p:nvSpPr>
              <p:spPr>
                <a:xfrm>
                  <a:off x="2685600" y="3692520"/>
                  <a:ext cx="76320" cy="76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91"/>
              <p:cNvSpPr/>
              <p:nvPr/>
            </p:nvSpPr>
            <p:spPr>
              <a:xfrm>
                <a:off x="1952280" y="4013280"/>
                <a:ext cx="2109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99"/>
                    </a:solidFill>
                    <a:latin typeface="Berlin Sans FB Demi"/>
                  </a:rPr>
                  <a:t>Frammenti di mas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99"/>
                    </a:solidFill>
                    <a:latin typeface="Berlin Sans FB Demi"/>
                  </a:rPr>
                  <a:t>Intermedia e proton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99"/>
                    </a:solidFill>
                    <a:latin typeface="Berlin Sans FB Demi"/>
                  </a:rPr>
                  <a:t>neutroni, alfa, deutoni …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Berlin Sans FB Dem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Picture 108" descr=""/>
            <p:cNvPicPr/>
            <p:nvPr/>
          </p:nvPicPr>
          <p:blipFill>
            <a:blip r:embed="rId4"/>
            <a:stretch/>
          </p:blipFill>
          <p:spPr>
            <a:xfrm rot="2700000">
              <a:off x="2652120" y="3342240"/>
              <a:ext cx="5047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09" descr=""/>
            <p:cNvPicPr/>
            <p:nvPr/>
          </p:nvPicPr>
          <p:blipFill>
            <a:blip r:embed="rId5"/>
            <a:stretch/>
          </p:blipFill>
          <p:spPr>
            <a:xfrm rot="18900000">
              <a:off x="2051280" y="2646000"/>
              <a:ext cx="5047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114"/>
          <p:cNvSpPr/>
          <p:nvPr/>
        </p:nvSpPr>
        <p:spPr>
          <a:xfrm>
            <a:off x="4140360" y="3030480"/>
            <a:ext cx="489564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Berlin Sans FB Demi"/>
              </a:rPr>
              <a:t>Energie Intermedie</a:t>
            </a:r>
            <a:r>
              <a:rPr b="1" lang="it-IT" sz="1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(10 MeV/A &lt; E/A&lt;100 MeV/A), produzione di particelle leggere (p, n, d, t, </a:t>
            </a:r>
            <a:r>
              <a:rPr b="1" lang="it-IT" sz="16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, </a:t>
            </a:r>
            <a:r>
              <a:rPr b="1" lang="it-IT" sz="1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) e di diversi nuclei di piccola taglia (C, N, O, 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(multiframmentazi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5"/>
          <p:cNvSpPr/>
          <p:nvPr/>
        </p:nvSpPr>
        <p:spPr>
          <a:xfrm>
            <a:off x="4211640" y="5267160"/>
            <a:ext cx="482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808080"/>
                </a:solidFill>
                <a:latin typeface="Berlin Sans FB Demi"/>
              </a:rPr>
              <a:t>Energie Relativistiche</a:t>
            </a:r>
            <a:r>
              <a:rPr b="1" lang="it-IT" sz="1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( E/A &gt; 100 MeV/A), completo disassemblamento dei nuclei in tantissime </a:t>
            </a: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particelle elementari</a:t>
            </a:r>
            <a:r>
              <a:rPr b="1" lang="it-IT" sz="1600" spc="-1" strike="noStrike">
                <a:solidFill>
                  <a:srgbClr val="000099"/>
                </a:solidFill>
                <a:latin typeface="Berlin Sans FB Demi"/>
              </a:rPr>
              <a:t> (soprattutto mesoni, p, etc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403280" y="1159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erlin Sans FB Demi"/>
              </a:rPr>
              <a:t>RIVELATORI E MULTIRIVEL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-230400" y="5084640"/>
            <a:ext cx="9707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Alle energie intermedie </a:t>
            </a:r>
            <a:r>
              <a:rPr b="1" lang="it-IT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 molte particelle emesse nella reazione </a:t>
            </a:r>
            <a:r>
              <a:rPr b="1" lang="it-IT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 molti rivel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Studio del numero, dell’energia, della direzione di produzione delle partic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Berlin Sans FB Demi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                                  </a:t>
            </a:r>
            <a:r>
              <a:rPr b="1" lang="it-IT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99"/>
                </a:solidFill>
                <a:latin typeface="Berlin Sans FB Demi"/>
              </a:rPr>
              <a:t>informazioni sulla </a:t>
            </a:r>
            <a:r>
              <a:rPr b="1" lang="it-IT" sz="2000" spc="-1" strike="noStrike">
                <a:solidFill>
                  <a:srgbClr val="990000"/>
                </a:solidFill>
                <a:latin typeface="Berlin Sans FB Demi"/>
              </a:rPr>
              <a:t>FORZA NUCLEARE</a:t>
            </a: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-231840" y="758880"/>
            <a:ext cx="95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00"/>
                </a:solidFill>
                <a:latin typeface="Berlin Sans FB Demi"/>
              </a:rPr>
              <a:t>RIVELATORE</a:t>
            </a:r>
            <a:r>
              <a:rPr b="1" lang="it-IT" sz="1800" spc="-1" strike="noStrike">
                <a:solidFill>
                  <a:srgbClr val="000099"/>
                </a:solidFill>
                <a:latin typeface="Berlin Sans FB Demi"/>
              </a:rPr>
              <a:t>: dispositivo che emette un segnale quando è colpito da una partic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4"/>
          <p:cNvSpPr/>
          <p:nvPr/>
        </p:nvSpPr>
        <p:spPr>
          <a:xfrm rot="5400000">
            <a:off x="2628000" y="1627920"/>
            <a:ext cx="1439640" cy="2016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5"/>
          <p:cNvGrpSpPr/>
          <p:nvPr/>
        </p:nvGrpSpPr>
        <p:grpSpPr>
          <a:xfrm>
            <a:off x="268920" y="2443680"/>
            <a:ext cx="330480" cy="291240"/>
            <a:chOff x="268920" y="2443680"/>
            <a:chExt cx="330480" cy="291240"/>
          </a:xfrm>
        </p:grpSpPr>
        <p:grpSp>
          <p:nvGrpSpPr>
            <p:cNvPr id="152" name="Group 96"/>
            <p:cNvGrpSpPr/>
            <p:nvPr/>
          </p:nvGrpSpPr>
          <p:grpSpPr>
            <a:xfrm>
              <a:off x="361800" y="2443680"/>
              <a:ext cx="207720" cy="194040"/>
              <a:chOff x="361800" y="2443680"/>
              <a:chExt cx="207720" cy="194040"/>
            </a:xfrm>
          </p:grpSpPr>
          <p:sp>
            <p:nvSpPr>
              <p:cNvPr id="153" name="Oval 97"/>
              <p:cNvSpPr/>
              <p:nvPr/>
            </p:nvSpPr>
            <p:spPr>
              <a:xfrm rot="2238000">
                <a:off x="383040" y="246528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8"/>
              <p:cNvSpPr/>
              <p:nvPr/>
            </p:nvSpPr>
            <p:spPr>
              <a:xfrm rot="2238000">
                <a:off x="439920" y="250848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99"/>
            <p:cNvGrpSpPr/>
            <p:nvPr/>
          </p:nvGrpSpPr>
          <p:grpSpPr>
            <a:xfrm>
              <a:off x="325440" y="2559600"/>
              <a:ext cx="207720" cy="175320"/>
              <a:chOff x="325440" y="2559600"/>
              <a:chExt cx="207720" cy="175320"/>
            </a:xfrm>
          </p:grpSpPr>
          <p:sp>
            <p:nvSpPr>
              <p:cNvPr id="156" name="Oval 100"/>
              <p:cNvSpPr/>
              <p:nvPr/>
            </p:nvSpPr>
            <p:spPr>
              <a:xfrm rot="9240000">
                <a:off x="407520" y="2577600"/>
                <a:ext cx="107280" cy="1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01"/>
              <p:cNvSpPr/>
              <p:nvPr/>
            </p:nvSpPr>
            <p:spPr>
              <a:xfrm rot="9240000">
                <a:off x="343440" y="2608920"/>
                <a:ext cx="107280" cy="107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02"/>
            <p:cNvGrpSpPr/>
            <p:nvPr/>
          </p:nvGrpSpPr>
          <p:grpSpPr>
            <a:xfrm>
              <a:off x="268920" y="2506680"/>
              <a:ext cx="207000" cy="194760"/>
              <a:chOff x="268920" y="2506680"/>
              <a:chExt cx="207000" cy="194760"/>
            </a:xfrm>
          </p:grpSpPr>
          <p:sp>
            <p:nvSpPr>
              <p:cNvPr id="159" name="Oval 103"/>
              <p:cNvSpPr/>
              <p:nvPr/>
            </p:nvSpPr>
            <p:spPr>
              <a:xfrm rot="19333800">
                <a:off x="290520" y="2571840"/>
                <a:ext cx="10728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04"/>
              <p:cNvSpPr/>
              <p:nvPr/>
            </p:nvSpPr>
            <p:spPr>
              <a:xfrm rot="19333800">
                <a:off x="346680" y="2528280"/>
                <a:ext cx="1072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05"/>
            <p:cNvGrpSpPr/>
            <p:nvPr/>
          </p:nvGrpSpPr>
          <p:grpSpPr>
            <a:xfrm>
              <a:off x="459360" y="2536200"/>
              <a:ext cx="140040" cy="196200"/>
              <a:chOff x="459360" y="2536200"/>
              <a:chExt cx="140040" cy="196200"/>
            </a:xfrm>
          </p:grpSpPr>
          <p:sp>
            <p:nvSpPr>
              <p:cNvPr id="162" name="Oval 106"/>
              <p:cNvSpPr/>
              <p:nvPr/>
            </p:nvSpPr>
            <p:spPr>
              <a:xfrm rot="6055200">
                <a:off x="482400" y="2544840"/>
                <a:ext cx="10728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07"/>
              <p:cNvSpPr/>
              <p:nvPr/>
            </p:nvSpPr>
            <p:spPr>
              <a:xfrm rot="6055200">
                <a:off x="468720" y="2615040"/>
                <a:ext cx="1072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108"/>
          <p:cNvSpPr/>
          <p:nvPr/>
        </p:nvSpPr>
        <p:spPr>
          <a:xfrm>
            <a:off x="4284720" y="2421000"/>
            <a:ext cx="1008000" cy="433440"/>
          </a:xfrm>
          <a:prstGeom prst="flowChartMagneticDrum">
            <a:avLst/>
          </a:prstGeom>
          <a:solidFill>
            <a:srgbClr val="fab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9"/>
          <p:cNvSpPr/>
          <p:nvPr/>
        </p:nvSpPr>
        <p:spPr>
          <a:xfrm>
            <a:off x="2268360" y="347652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Berlin Sans FB Demi"/>
              </a:rPr>
              <a:t>RIVEL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0"/>
          <p:cNvSpPr/>
          <p:nvPr/>
        </p:nvSpPr>
        <p:spPr>
          <a:xfrm>
            <a:off x="4500720" y="18446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erlin Sans FB Demi"/>
              </a:rPr>
              <a:t>Elettr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1"/>
          <p:cNvSpPr/>
          <p:nvPr/>
        </p:nvSpPr>
        <p:spPr>
          <a:xfrm>
            <a:off x="5580000" y="2708280"/>
            <a:ext cx="719280" cy="1109520"/>
          </a:xfrm>
          <a:custGeom>
            <a:avLst/>
            <a:gdLst>
              <a:gd name="textAreaLeft" fmla="*/ 0 w 719280"/>
              <a:gd name="textAreaRight" fmla="*/ 719640 w 71928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050" h="699">
                <a:moveTo>
                  <a:pt x="0" y="0"/>
                </a:moveTo>
                <a:cubicBezTo>
                  <a:pt x="17" y="54"/>
                  <a:pt x="68" y="220"/>
                  <a:pt x="100" y="323"/>
                </a:cubicBezTo>
                <a:cubicBezTo>
                  <a:pt x="132" y="426"/>
                  <a:pt x="162" y="563"/>
                  <a:pt x="192" y="616"/>
                </a:cubicBezTo>
                <a:cubicBezTo>
                  <a:pt x="222" y="669"/>
                  <a:pt x="243" y="699"/>
                  <a:pt x="280" y="640"/>
                </a:cubicBezTo>
                <a:cubicBezTo>
                  <a:pt x="317" y="581"/>
                  <a:pt x="358" y="360"/>
                  <a:pt x="416" y="264"/>
                </a:cubicBezTo>
                <a:cubicBezTo>
                  <a:pt x="474" y="168"/>
                  <a:pt x="532" y="102"/>
                  <a:pt x="631" y="62"/>
                </a:cubicBezTo>
                <a:cubicBezTo>
                  <a:pt x="730" y="22"/>
                  <a:pt x="966" y="29"/>
                  <a:pt x="1008" y="24"/>
                </a:cubicBezTo>
                <a:cubicBezTo>
                  <a:pt x="1050" y="19"/>
                  <a:pt x="907" y="30"/>
                  <a:pt x="880" y="32"/>
                </a:cubicBezTo>
              </a:path>
            </a:pathLst>
          </a:custGeom>
          <a:noFill/>
          <a:ln w="255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2"/>
          <p:cNvSpPr/>
          <p:nvPr/>
        </p:nvSpPr>
        <p:spPr>
          <a:xfrm>
            <a:off x="5364000" y="2637000"/>
            <a:ext cx="194472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3"/>
          <p:cNvSpPr/>
          <p:nvPr/>
        </p:nvSpPr>
        <p:spPr>
          <a:xfrm>
            <a:off x="5003640" y="3068640"/>
            <a:ext cx="3635640" cy="1512720"/>
          </a:xfrm>
          <a:prstGeom prst="irregularSeal2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Berlin Sans FB Demi"/>
              </a:rPr>
              <a:t>È arriv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Berlin Sans FB Demi"/>
              </a:rPr>
              <a:t>un nucleo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0.33263 0.00255 E">
                                      <p:cBhvr>
                                        <p:cTn id="24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749600" y="981000"/>
            <a:ext cx="207720" cy="18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627280" y="981000"/>
            <a:ext cx="2289240" cy="18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732200" y="1677960"/>
            <a:ext cx="417600" cy="463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923000" y="1254240"/>
            <a:ext cx="8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69920" y="1909800"/>
            <a:ext cx="3952800" cy="4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547640" y="95580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492360" y="965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329400" y="1707120"/>
            <a:ext cx="329400" cy="290880"/>
            <a:chOff x="329400" y="1707120"/>
            <a:chExt cx="329400" cy="290880"/>
          </a:xfrm>
        </p:grpSpPr>
        <p:grpSp>
          <p:nvGrpSpPr>
            <p:cNvPr id="178" name="Group 12"/>
            <p:cNvGrpSpPr/>
            <p:nvPr/>
          </p:nvGrpSpPr>
          <p:grpSpPr>
            <a:xfrm>
              <a:off x="422280" y="1707120"/>
              <a:ext cx="207360" cy="193680"/>
              <a:chOff x="422280" y="1707120"/>
              <a:chExt cx="207360" cy="193680"/>
            </a:xfrm>
          </p:grpSpPr>
          <p:sp>
            <p:nvSpPr>
              <p:cNvPr id="179" name="Oval 13"/>
              <p:cNvSpPr/>
              <p:nvPr/>
            </p:nvSpPr>
            <p:spPr>
              <a:xfrm rot="2238000">
                <a:off x="443520" y="1728360"/>
                <a:ext cx="107280" cy="1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4"/>
              <p:cNvSpPr/>
              <p:nvPr/>
            </p:nvSpPr>
            <p:spPr>
              <a:xfrm rot="2238000">
                <a:off x="500400" y="1771560"/>
                <a:ext cx="107280" cy="107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5"/>
            <p:cNvGrpSpPr/>
            <p:nvPr/>
          </p:nvGrpSpPr>
          <p:grpSpPr>
            <a:xfrm>
              <a:off x="386280" y="1823400"/>
              <a:ext cx="207360" cy="174600"/>
              <a:chOff x="386280" y="1823400"/>
              <a:chExt cx="207360" cy="174600"/>
            </a:xfrm>
          </p:grpSpPr>
          <p:sp>
            <p:nvSpPr>
              <p:cNvPr id="182" name="Oval 16"/>
              <p:cNvSpPr/>
              <p:nvPr/>
            </p:nvSpPr>
            <p:spPr>
              <a:xfrm rot="9240000">
                <a:off x="468000" y="1841400"/>
                <a:ext cx="107280" cy="10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7"/>
              <p:cNvSpPr/>
              <p:nvPr/>
            </p:nvSpPr>
            <p:spPr>
              <a:xfrm rot="9240000">
                <a:off x="403920" y="1872360"/>
                <a:ext cx="107280" cy="107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8"/>
            <p:cNvGrpSpPr/>
            <p:nvPr/>
          </p:nvGrpSpPr>
          <p:grpSpPr>
            <a:xfrm>
              <a:off x="329400" y="1770120"/>
              <a:ext cx="207000" cy="194400"/>
              <a:chOff x="329400" y="1770120"/>
              <a:chExt cx="207000" cy="194400"/>
            </a:xfrm>
          </p:grpSpPr>
          <p:sp>
            <p:nvSpPr>
              <p:cNvPr id="185" name="Oval 19"/>
              <p:cNvSpPr/>
              <p:nvPr/>
            </p:nvSpPr>
            <p:spPr>
              <a:xfrm rot="19333800">
                <a:off x="351000" y="1835280"/>
                <a:ext cx="107280" cy="1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20"/>
              <p:cNvSpPr/>
              <p:nvPr/>
            </p:nvSpPr>
            <p:spPr>
              <a:xfrm rot="19333800">
                <a:off x="407160" y="1791720"/>
                <a:ext cx="107280" cy="107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1"/>
            <p:cNvGrpSpPr/>
            <p:nvPr/>
          </p:nvGrpSpPr>
          <p:grpSpPr>
            <a:xfrm>
              <a:off x="519480" y="1799280"/>
              <a:ext cx="139320" cy="195840"/>
              <a:chOff x="519480" y="1799280"/>
              <a:chExt cx="139320" cy="195840"/>
            </a:xfrm>
          </p:grpSpPr>
          <p:sp>
            <p:nvSpPr>
              <p:cNvPr id="188" name="Oval 22"/>
              <p:cNvSpPr/>
              <p:nvPr/>
            </p:nvSpPr>
            <p:spPr>
              <a:xfrm rot="6055200">
                <a:off x="542160" y="1808280"/>
                <a:ext cx="107280" cy="1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3"/>
              <p:cNvSpPr/>
              <p:nvPr/>
            </p:nvSpPr>
            <p:spPr>
              <a:xfrm rot="6055200">
                <a:off x="528840" y="1878120"/>
                <a:ext cx="107280" cy="107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Text Box 24"/>
          <p:cNvSpPr/>
          <p:nvPr/>
        </p:nvSpPr>
        <p:spPr>
          <a:xfrm>
            <a:off x="7164360" y="134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H="1">
            <a:off x="1187280" y="2852640"/>
            <a:ext cx="648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 flipV="1">
            <a:off x="5148360" y="1701360"/>
            <a:ext cx="71892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7"/>
          <p:cNvGrpSpPr/>
          <p:nvPr/>
        </p:nvGrpSpPr>
        <p:grpSpPr>
          <a:xfrm>
            <a:off x="0" y="3645000"/>
            <a:ext cx="3132000" cy="1923120"/>
            <a:chOff x="0" y="3645000"/>
            <a:chExt cx="3132000" cy="1923120"/>
          </a:xfrm>
        </p:grpSpPr>
        <p:sp>
          <p:nvSpPr>
            <p:cNvPr id="194" name="Text Box 28"/>
            <p:cNvSpPr/>
            <p:nvPr/>
          </p:nvSpPr>
          <p:spPr>
            <a:xfrm>
              <a:off x="0" y="5230800"/>
              <a:ext cx="99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9"/>
            <p:cNvSpPr/>
            <p:nvPr/>
          </p:nvSpPr>
          <p:spPr>
            <a:xfrm>
              <a:off x="360360" y="3717720"/>
              <a:ext cx="2376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360360" y="3933720"/>
              <a:ext cx="1666800" cy="110916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1109160"/>
                <a:gd name="textAreaBottom" fmla="*/ 1109520 h 1109160"/>
              </a:gdLst>
              <a:ahLst/>
              <a:rect l="textAreaLeft" t="textAreaTop" r="textAreaRight" b="textAreaBottom"/>
              <a:pathLst>
                <a:path w="1050" h="699">
                  <a:moveTo>
                    <a:pt x="0" y="0"/>
                  </a:moveTo>
                  <a:cubicBezTo>
                    <a:pt x="17" y="59"/>
                    <a:pt x="70" y="253"/>
                    <a:pt x="102" y="356"/>
                  </a:cubicBezTo>
                  <a:cubicBezTo>
                    <a:pt x="134" y="459"/>
                    <a:pt x="162" y="569"/>
                    <a:pt x="192" y="616"/>
                  </a:cubicBezTo>
                  <a:cubicBezTo>
                    <a:pt x="222" y="663"/>
                    <a:pt x="243" y="699"/>
                    <a:pt x="280" y="640"/>
                  </a:cubicBezTo>
                  <a:cubicBezTo>
                    <a:pt x="317" y="581"/>
                    <a:pt x="358" y="360"/>
                    <a:pt x="416" y="264"/>
                  </a:cubicBezTo>
                  <a:cubicBezTo>
                    <a:pt x="474" y="168"/>
                    <a:pt x="532" y="102"/>
                    <a:pt x="631" y="62"/>
                  </a:cubicBezTo>
                  <a:cubicBezTo>
                    <a:pt x="730" y="22"/>
                    <a:pt x="966" y="29"/>
                    <a:pt x="1008" y="24"/>
                  </a:cubicBezTo>
                  <a:cubicBezTo>
                    <a:pt x="1050" y="19"/>
                    <a:pt x="907" y="30"/>
                    <a:pt x="880" y="3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>
              <a:off x="289080" y="393372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2"/>
            <p:cNvSpPr/>
            <p:nvPr/>
          </p:nvSpPr>
          <p:spPr>
            <a:xfrm>
              <a:off x="289080" y="39337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3"/>
            <p:cNvSpPr/>
            <p:nvPr/>
          </p:nvSpPr>
          <p:spPr>
            <a:xfrm>
              <a:off x="1081080" y="3933720"/>
              <a:ext cx="0" cy="108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4"/>
            <p:cNvSpPr/>
            <p:nvPr/>
          </p:nvSpPr>
          <p:spPr>
            <a:xfrm>
              <a:off x="2700360" y="36450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5"/>
          <p:cNvGrpSpPr/>
          <p:nvPr/>
        </p:nvGrpSpPr>
        <p:grpSpPr>
          <a:xfrm>
            <a:off x="5867280" y="620640"/>
            <a:ext cx="3024360" cy="1873080"/>
            <a:chOff x="5867280" y="620640"/>
            <a:chExt cx="3024360" cy="1873080"/>
          </a:xfrm>
        </p:grpSpPr>
        <p:sp>
          <p:nvSpPr>
            <p:cNvPr id="202" name="Text Box 36"/>
            <p:cNvSpPr/>
            <p:nvPr/>
          </p:nvSpPr>
          <p:spPr>
            <a:xfrm>
              <a:off x="6227640" y="693720"/>
              <a:ext cx="23767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6227640" y="909360"/>
              <a:ext cx="1667160" cy="1109880"/>
            </a:xfrm>
            <a:custGeom>
              <a:avLst/>
              <a:gdLst>
                <a:gd name="textAreaLeft" fmla="*/ 0 w 1667160"/>
                <a:gd name="textAreaRight" fmla="*/ 1667520 w 16671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1050" h="699">
                  <a:moveTo>
                    <a:pt x="0" y="0"/>
                  </a:moveTo>
                  <a:cubicBezTo>
                    <a:pt x="17" y="54"/>
                    <a:pt x="68" y="220"/>
                    <a:pt x="100" y="323"/>
                  </a:cubicBezTo>
                  <a:cubicBezTo>
                    <a:pt x="132" y="426"/>
                    <a:pt x="162" y="563"/>
                    <a:pt x="192" y="616"/>
                  </a:cubicBezTo>
                  <a:cubicBezTo>
                    <a:pt x="222" y="669"/>
                    <a:pt x="243" y="699"/>
                    <a:pt x="280" y="640"/>
                  </a:cubicBezTo>
                  <a:cubicBezTo>
                    <a:pt x="317" y="581"/>
                    <a:pt x="358" y="360"/>
                    <a:pt x="416" y="264"/>
                  </a:cubicBezTo>
                  <a:cubicBezTo>
                    <a:pt x="474" y="168"/>
                    <a:pt x="532" y="102"/>
                    <a:pt x="631" y="62"/>
                  </a:cubicBezTo>
                  <a:cubicBezTo>
                    <a:pt x="730" y="22"/>
                    <a:pt x="966" y="29"/>
                    <a:pt x="1008" y="24"/>
                  </a:cubicBezTo>
                  <a:cubicBezTo>
                    <a:pt x="1050" y="19"/>
                    <a:pt x="907" y="30"/>
                    <a:pt x="880" y="3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8"/>
            <p:cNvSpPr/>
            <p:nvPr/>
          </p:nvSpPr>
          <p:spPr>
            <a:xfrm>
              <a:off x="6156360" y="90936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9"/>
            <p:cNvSpPr/>
            <p:nvPr/>
          </p:nvSpPr>
          <p:spPr>
            <a:xfrm>
              <a:off x="6156360" y="90936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0"/>
            <p:cNvSpPr/>
            <p:nvPr/>
          </p:nvSpPr>
          <p:spPr>
            <a:xfrm>
              <a:off x="6948360" y="909360"/>
              <a:ext cx="0" cy="10814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41"/>
            <p:cNvSpPr/>
            <p:nvPr/>
          </p:nvSpPr>
          <p:spPr>
            <a:xfrm>
              <a:off x="5867280" y="2060640"/>
              <a:ext cx="9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2"/>
            <p:cNvSpPr/>
            <p:nvPr/>
          </p:nvSpPr>
          <p:spPr>
            <a:xfrm>
              <a:off x="8532720" y="62064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3"/>
          <p:cNvGrpSpPr/>
          <p:nvPr/>
        </p:nvGrpSpPr>
        <p:grpSpPr>
          <a:xfrm>
            <a:off x="3780000" y="3068640"/>
            <a:ext cx="4895640" cy="3600360"/>
            <a:chOff x="3780000" y="3068640"/>
            <a:chExt cx="4895640" cy="3600360"/>
          </a:xfrm>
        </p:grpSpPr>
        <p:pic>
          <p:nvPicPr>
            <p:cNvPr id="210" name="Picture 44" descr="de-fasthg124"/>
            <p:cNvPicPr/>
            <p:nvPr/>
          </p:nvPicPr>
          <p:blipFill>
            <a:blip r:embed="rId1"/>
            <a:stretch/>
          </p:blipFill>
          <p:spPr>
            <a:xfrm>
              <a:off x="3780000" y="3068640"/>
              <a:ext cx="4895640" cy="3600360"/>
            </a:xfrm>
            <a:prstGeom prst="rect">
              <a:avLst/>
            </a:prstGeom>
            <a:ln w="38160">
              <a:solidFill>
                <a:srgbClr val="99cc00"/>
              </a:solidFill>
              <a:miter/>
            </a:ln>
          </p:spPr>
        </p:pic>
        <p:sp>
          <p:nvSpPr>
            <p:cNvPr id="211" name="Rectangle 45"/>
            <p:cNvSpPr/>
            <p:nvPr/>
          </p:nvSpPr>
          <p:spPr>
            <a:xfrm>
              <a:off x="6300720" y="3213000"/>
              <a:ext cx="172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46"/>
          <p:cNvSpPr/>
          <p:nvPr/>
        </p:nvSpPr>
        <p:spPr>
          <a:xfrm>
            <a:off x="1258920" y="4294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7"/>
          <p:cNvSpPr/>
          <p:nvPr/>
        </p:nvSpPr>
        <p:spPr>
          <a:xfrm>
            <a:off x="322200" y="3357720"/>
            <a:ext cx="3457800" cy="230328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8"/>
          <p:cNvSpPr/>
          <p:nvPr/>
        </p:nvSpPr>
        <p:spPr>
          <a:xfrm>
            <a:off x="5148360" y="909720"/>
            <a:ext cx="3456000" cy="2160360"/>
          </a:xfrm>
          <a:prstGeom prst="downArrow">
            <a:avLst>
              <a:gd name="adj1" fmla="val 41593"/>
              <a:gd name="adj2" fmla="val 26852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49"/>
          <p:cNvSpPr/>
          <p:nvPr/>
        </p:nvSpPr>
        <p:spPr>
          <a:xfrm>
            <a:off x="4657680" y="4035600"/>
            <a:ext cx="2506680" cy="1625400"/>
          </a:xfrm>
          <a:custGeom>
            <a:avLst/>
            <a:gdLst>
              <a:gd name="textAreaLeft" fmla="*/ 0 w 2506680"/>
              <a:gd name="textAreaRight" fmla="*/ 2507040 w 250668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1579" h="1024">
                <a:moveTo>
                  <a:pt x="0" y="0"/>
                </a:moveTo>
                <a:cubicBezTo>
                  <a:pt x="9" y="33"/>
                  <a:pt x="31" y="134"/>
                  <a:pt x="57" y="204"/>
                </a:cubicBezTo>
                <a:cubicBezTo>
                  <a:pt x="83" y="274"/>
                  <a:pt x="112" y="356"/>
                  <a:pt x="156" y="423"/>
                </a:cubicBezTo>
                <a:cubicBezTo>
                  <a:pt x="200" y="490"/>
                  <a:pt x="248" y="546"/>
                  <a:pt x="321" y="606"/>
                </a:cubicBezTo>
                <a:cubicBezTo>
                  <a:pt x="394" y="666"/>
                  <a:pt x="498" y="736"/>
                  <a:pt x="594" y="783"/>
                </a:cubicBezTo>
                <a:cubicBezTo>
                  <a:pt x="690" y="830"/>
                  <a:pt x="780" y="855"/>
                  <a:pt x="899" y="888"/>
                </a:cubicBezTo>
                <a:cubicBezTo>
                  <a:pt x="1018" y="921"/>
                  <a:pt x="1194" y="956"/>
                  <a:pt x="1307" y="979"/>
                </a:cubicBezTo>
                <a:cubicBezTo>
                  <a:pt x="1420" y="1002"/>
                  <a:pt x="1499" y="1013"/>
                  <a:pt x="1579" y="1024"/>
                </a:cubicBezTo>
              </a:path>
            </a:pathLst>
          </a:custGeom>
          <a:noFill/>
          <a:ln cap="rnd" w="12708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0"/>
          <p:cNvSpPr/>
          <p:nvPr/>
        </p:nvSpPr>
        <p:spPr>
          <a:xfrm>
            <a:off x="7236000" y="544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Z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1"/>
          <p:cNvSpPr/>
          <p:nvPr/>
        </p:nvSpPr>
        <p:spPr>
          <a:xfrm>
            <a:off x="2268360" y="1634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DENTIFICAZIONE IN CARIC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0.15105 0.00024 E">
                                      <p:cBhvr>
                                        <p:cTn id="26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04 0.00023 L 0.39167 0.00162 E">
                                      <p:cBhvr>
                                        <p:cTn id="28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500"/>
                            </p:stCondLst>
                            <p:childTnLst>
                              <p:par>
                                <p:cTn id="2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68360" y="4581360"/>
                <a:ext cx="24480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Rectangle 5"/>
          <p:cNvSpPr/>
          <p:nvPr/>
        </p:nvSpPr>
        <p:spPr>
          <a:xfrm>
            <a:off x="2773440" y="765000"/>
            <a:ext cx="287280" cy="15130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685800" y="692280"/>
            <a:ext cx="0" cy="158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325440" y="1483920"/>
            <a:ext cx="2664000" cy="9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268200" y="1290960"/>
            <a:ext cx="331200" cy="291600"/>
            <a:chOff x="268200" y="1290960"/>
            <a:chExt cx="331200" cy="291600"/>
          </a:xfrm>
        </p:grpSpPr>
        <p:grpSp>
          <p:nvGrpSpPr>
            <p:cNvPr id="223" name="Group 9"/>
            <p:cNvGrpSpPr/>
            <p:nvPr/>
          </p:nvGrpSpPr>
          <p:grpSpPr>
            <a:xfrm>
              <a:off x="361440" y="1290960"/>
              <a:ext cx="208080" cy="194400"/>
              <a:chOff x="361440" y="1290960"/>
              <a:chExt cx="208080" cy="194400"/>
            </a:xfrm>
          </p:grpSpPr>
          <p:sp>
            <p:nvSpPr>
              <p:cNvPr id="224" name="Oval 10"/>
              <p:cNvSpPr/>
              <p:nvPr/>
            </p:nvSpPr>
            <p:spPr>
              <a:xfrm rot="2238000">
                <a:off x="383040" y="13122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1"/>
              <p:cNvSpPr/>
              <p:nvPr/>
            </p:nvSpPr>
            <p:spPr>
              <a:xfrm rot="2238000">
                <a:off x="439920" y="135540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2"/>
            <p:cNvGrpSpPr/>
            <p:nvPr/>
          </p:nvGrpSpPr>
          <p:grpSpPr>
            <a:xfrm>
              <a:off x="325080" y="1407240"/>
              <a:ext cx="208080" cy="175320"/>
              <a:chOff x="325080" y="1407240"/>
              <a:chExt cx="208080" cy="175320"/>
            </a:xfrm>
          </p:grpSpPr>
          <p:sp>
            <p:nvSpPr>
              <p:cNvPr id="227" name="Oval 13"/>
              <p:cNvSpPr/>
              <p:nvPr/>
            </p:nvSpPr>
            <p:spPr>
              <a:xfrm rot="9240000">
                <a:off x="407160" y="142524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4"/>
              <p:cNvSpPr/>
              <p:nvPr/>
            </p:nvSpPr>
            <p:spPr>
              <a:xfrm rot="9240000">
                <a:off x="343080" y="145656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5"/>
            <p:cNvGrpSpPr/>
            <p:nvPr/>
          </p:nvGrpSpPr>
          <p:grpSpPr>
            <a:xfrm>
              <a:off x="268200" y="1355040"/>
              <a:ext cx="207720" cy="194760"/>
              <a:chOff x="268200" y="1355040"/>
              <a:chExt cx="207720" cy="194760"/>
            </a:xfrm>
          </p:grpSpPr>
          <p:sp>
            <p:nvSpPr>
              <p:cNvPr id="230" name="Oval 16"/>
              <p:cNvSpPr/>
              <p:nvPr/>
            </p:nvSpPr>
            <p:spPr>
              <a:xfrm rot="19333800">
                <a:off x="289800" y="141984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7"/>
              <p:cNvSpPr/>
              <p:nvPr/>
            </p:nvSpPr>
            <p:spPr>
              <a:xfrm rot="19333800">
                <a:off x="346320" y="137628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8"/>
            <p:cNvGrpSpPr/>
            <p:nvPr/>
          </p:nvGrpSpPr>
          <p:grpSpPr>
            <a:xfrm>
              <a:off x="459360" y="1383480"/>
              <a:ext cx="140040" cy="196560"/>
              <a:chOff x="459360" y="1383480"/>
              <a:chExt cx="140040" cy="196560"/>
            </a:xfrm>
          </p:grpSpPr>
          <p:sp>
            <p:nvSpPr>
              <p:cNvPr id="233" name="Oval 19"/>
              <p:cNvSpPr/>
              <p:nvPr/>
            </p:nvSpPr>
            <p:spPr>
              <a:xfrm rot="6055200">
                <a:off x="482040" y="1392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0"/>
              <p:cNvSpPr/>
              <p:nvPr/>
            </p:nvSpPr>
            <p:spPr>
              <a:xfrm rot="6055200">
                <a:off x="468360" y="146268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21"/>
          <p:cNvSpPr/>
          <p:nvPr/>
        </p:nvSpPr>
        <p:spPr>
          <a:xfrm>
            <a:off x="685800" y="2781360"/>
            <a:ext cx="23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2"/>
          <p:cNvGrpSpPr/>
          <p:nvPr/>
        </p:nvGrpSpPr>
        <p:grpSpPr>
          <a:xfrm>
            <a:off x="541440" y="2637000"/>
            <a:ext cx="645840" cy="1469880"/>
            <a:chOff x="541440" y="2637000"/>
            <a:chExt cx="645840" cy="1469880"/>
          </a:xfrm>
        </p:grpSpPr>
        <p:sp>
          <p:nvSpPr>
            <p:cNvPr id="237" name="Freeform 23"/>
            <p:cNvSpPr/>
            <p:nvPr/>
          </p:nvSpPr>
          <p:spPr>
            <a:xfrm>
              <a:off x="685800" y="2997360"/>
              <a:ext cx="142920" cy="11095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1050" h="699">
                  <a:moveTo>
                    <a:pt x="0" y="0"/>
                  </a:moveTo>
                  <a:cubicBezTo>
                    <a:pt x="17" y="54"/>
                    <a:pt x="68" y="220"/>
                    <a:pt x="100" y="323"/>
                  </a:cubicBezTo>
                  <a:cubicBezTo>
                    <a:pt x="132" y="426"/>
                    <a:pt x="162" y="563"/>
                    <a:pt x="192" y="616"/>
                  </a:cubicBezTo>
                  <a:cubicBezTo>
                    <a:pt x="222" y="669"/>
                    <a:pt x="243" y="699"/>
                    <a:pt x="280" y="640"/>
                  </a:cubicBezTo>
                  <a:cubicBezTo>
                    <a:pt x="317" y="581"/>
                    <a:pt x="358" y="360"/>
                    <a:pt x="416" y="264"/>
                  </a:cubicBezTo>
                  <a:cubicBezTo>
                    <a:pt x="474" y="168"/>
                    <a:pt x="532" y="102"/>
                    <a:pt x="631" y="62"/>
                  </a:cubicBezTo>
                  <a:cubicBezTo>
                    <a:pt x="730" y="22"/>
                    <a:pt x="966" y="29"/>
                    <a:pt x="1008" y="24"/>
                  </a:cubicBezTo>
                  <a:cubicBezTo>
                    <a:pt x="1050" y="19"/>
                    <a:pt x="907" y="30"/>
                    <a:pt x="880" y="32"/>
                  </a:cubicBezTo>
                </a:path>
              </a:pathLst>
            </a:custGeom>
            <a:noFill/>
            <a:ln w="255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541440" y="2637000"/>
              <a:ext cx="64584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6600"/>
                  </a:solidFill>
                  <a:latin typeface="Tahoma"/>
                </a:rPr>
                <a:t>t</a:t>
              </a:r>
              <a:r>
                <a:rPr b="1" lang="it-IT" sz="1800" spc="-1" strike="noStrike" baseline="-25000">
                  <a:solidFill>
                    <a:srgbClr val="0066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5"/>
          <p:cNvGrpSpPr/>
          <p:nvPr/>
        </p:nvGrpSpPr>
        <p:grpSpPr>
          <a:xfrm>
            <a:off x="2700360" y="2637000"/>
            <a:ext cx="647640" cy="1469880"/>
            <a:chOff x="2700360" y="2637000"/>
            <a:chExt cx="647640" cy="1469880"/>
          </a:xfrm>
        </p:grpSpPr>
        <p:sp>
          <p:nvSpPr>
            <p:cNvPr id="240" name="Freeform 26"/>
            <p:cNvSpPr/>
            <p:nvPr/>
          </p:nvSpPr>
          <p:spPr>
            <a:xfrm>
              <a:off x="2773440" y="2997360"/>
              <a:ext cx="142920" cy="11095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1050" h="699">
                  <a:moveTo>
                    <a:pt x="0" y="0"/>
                  </a:moveTo>
                  <a:cubicBezTo>
                    <a:pt x="17" y="54"/>
                    <a:pt x="68" y="220"/>
                    <a:pt x="100" y="323"/>
                  </a:cubicBezTo>
                  <a:cubicBezTo>
                    <a:pt x="132" y="426"/>
                    <a:pt x="162" y="563"/>
                    <a:pt x="192" y="616"/>
                  </a:cubicBezTo>
                  <a:cubicBezTo>
                    <a:pt x="222" y="669"/>
                    <a:pt x="243" y="699"/>
                    <a:pt x="280" y="640"/>
                  </a:cubicBezTo>
                  <a:cubicBezTo>
                    <a:pt x="317" y="581"/>
                    <a:pt x="358" y="360"/>
                    <a:pt x="416" y="264"/>
                  </a:cubicBezTo>
                  <a:cubicBezTo>
                    <a:pt x="474" y="168"/>
                    <a:pt x="532" y="102"/>
                    <a:pt x="631" y="62"/>
                  </a:cubicBezTo>
                  <a:cubicBezTo>
                    <a:pt x="730" y="22"/>
                    <a:pt x="966" y="29"/>
                    <a:pt x="1008" y="24"/>
                  </a:cubicBezTo>
                  <a:cubicBezTo>
                    <a:pt x="1050" y="19"/>
                    <a:pt x="907" y="30"/>
                    <a:pt x="880" y="32"/>
                  </a:cubicBezTo>
                </a:path>
              </a:pathLst>
            </a:custGeom>
            <a:noFill/>
            <a:ln w="255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2700360" y="2637000"/>
              <a:ext cx="64764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6600"/>
                  </a:solidFill>
                  <a:latin typeface="Tahoma"/>
                </a:rPr>
                <a:t>t</a:t>
              </a:r>
              <a:r>
                <a:rPr b="1" lang="it-IT" sz="1800" spc="-1" strike="noStrike" baseline="-25000">
                  <a:solidFill>
                    <a:srgbClr val="0066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Line 28"/>
          <p:cNvSpPr/>
          <p:nvPr/>
        </p:nvSpPr>
        <p:spPr>
          <a:xfrm>
            <a:off x="757080" y="227664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1476360" y="1916280"/>
            <a:ext cx="36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MT Extra"/>
                <a:ea typeface="MT Extra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0"/>
              <p:cNvSpPr txBox="1"/>
              <p:nvPr/>
            </p:nvSpPr>
            <p:spPr>
              <a:xfrm>
                <a:off x="468360" y="5373720"/>
                <a:ext cx="2448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5" name="Group 31"/>
          <p:cNvGrpSpPr/>
          <p:nvPr/>
        </p:nvGrpSpPr>
        <p:grpSpPr>
          <a:xfrm>
            <a:off x="179280" y="2637000"/>
            <a:ext cx="3602160" cy="1728720"/>
            <a:chOff x="179280" y="2637000"/>
            <a:chExt cx="3602160" cy="1728720"/>
          </a:xfrm>
        </p:grpSpPr>
        <p:sp>
          <p:nvSpPr>
            <p:cNvPr id="246" name="Line 32"/>
            <p:cNvSpPr/>
            <p:nvPr/>
          </p:nvSpPr>
          <p:spPr>
            <a:xfrm>
              <a:off x="468360" y="2997360"/>
              <a:ext cx="331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3"/>
            <p:cNvSpPr/>
            <p:nvPr/>
          </p:nvSpPr>
          <p:spPr>
            <a:xfrm>
              <a:off x="468360" y="2997360"/>
              <a:ext cx="1440" cy="13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4"/>
            <p:cNvSpPr/>
            <p:nvPr/>
          </p:nvSpPr>
          <p:spPr>
            <a:xfrm>
              <a:off x="17928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5"/>
            <p:cNvSpPr/>
            <p:nvPr/>
          </p:nvSpPr>
          <p:spPr>
            <a:xfrm>
              <a:off x="3348000" y="2637000"/>
              <a:ext cx="36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36"/>
          <p:cNvSpPr/>
          <p:nvPr/>
        </p:nvSpPr>
        <p:spPr>
          <a:xfrm>
            <a:off x="611280" y="260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empo di V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7"/>
          <p:cNvGrpSpPr/>
          <p:nvPr/>
        </p:nvGrpSpPr>
        <p:grpSpPr>
          <a:xfrm>
            <a:off x="3995640" y="907920"/>
            <a:ext cx="4876920" cy="4978440"/>
            <a:chOff x="3995640" y="907920"/>
            <a:chExt cx="4876920" cy="4978440"/>
          </a:xfrm>
        </p:grpSpPr>
        <p:pic>
          <p:nvPicPr>
            <p:cNvPr id="252" name="Picture 38" descr="si-time"/>
            <p:cNvPicPr/>
            <p:nvPr/>
          </p:nvPicPr>
          <p:blipFill>
            <a:blip r:embed="rId1"/>
            <a:stretch/>
          </p:blipFill>
          <p:spPr>
            <a:xfrm>
              <a:off x="3995640" y="907920"/>
              <a:ext cx="4876920" cy="4978440"/>
            </a:xfrm>
            <a:prstGeom prst="rect">
              <a:avLst/>
            </a:prstGeom>
            <a:ln w="38160">
              <a:solidFill>
                <a:srgbClr val="99cc00"/>
              </a:solidFill>
              <a:miter/>
            </a:ln>
          </p:spPr>
        </p:pic>
        <p:sp>
          <p:nvSpPr>
            <p:cNvPr id="253" name="Text Box 39"/>
            <p:cNvSpPr/>
            <p:nvPr/>
          </p:nvSpPr>
          <p:spPr>
            <a:xfrm rot="16200000">
              <a:off x="3537000" y="2015640"/>
              <a:ext cx="1224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Ener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0"/>
            <p:cNvSpPr/>
            <p:nvPr/>
          </p:nvSpPr>
          <p:spPr>
            <a:xfrm>
              <a:off x="6516720" y="1125360"/>
              <a:ext cx="165564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1"/>
            <p:cNvSpPr/>
            <p:nvPr/>
          </p:nvSpPr>
          <p:spPr>
            <a:xfrm>
              <a:off x="7885080" y="5516640"/>
              <a:ext cx="7192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it-IT" sz="1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-t</a:t>
              </a:r>
              <a:r>
                <a:rPr b="0" lang="it-IT" sz="1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Freeform 42"/>
          <p:cNvSpPr/>
          <p:nvPr/>
        </p:nvSpPr>
        <p:spPr>
          <a:xfrm>
            <a:off x="4859280" y="4076640"/>
            <a:ext cx="2460600" cy="103680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1550" h="653">
                <a:moveTo>
                  <a:pt x="0" y="653"/>
                </a:moveTo>
                <a:cubicBezTo>
                  <a:pt x="17" y="653"/>
                  <a:pt x="63" y="653"/>
                  <a:pt x="103" y="652"/>
                </a:cubicBezTo>
                <a:cubicBezTo>
                  <a:pt x="143" y="651"/>
                  <a:pt x="189" y="651"/>
                  <a:pt x="243" y="647"/>
                </a:cubicBezTo>
                <a:cubicBezTo>
                  <a:pt x="297" y="643"/>
                  <a:pt x="350" y="639"/>
                  <a:pt x="425" y="630"/>
                </a:cubicBezTo>
                <a:cubicBezTo>
                  <a:pt x="500" y="621"/>
                  <a:pt x="605" y="610"/>
                  <a:pt x="696" y="593"/>
                </a:cubicBezTo>
                <a:cubicBezTo>
                  <a:pt x="787" y="576"/>
                  <a:pt x="873" y="570"/>
                  <a:pt x="969" y="527"/>
                </a:cubicBezTo>
                <a:cubicBezTo>
                  <a:pt x="1065" y="484"/>
                  <a:pt x="1179" y="417"/>
                  <a:pt x="1269" y="338"/>
                </a:cubicBezTo>
                <a:cubicBezTo>
                  <a:pt x="1359" y="259"/>
                  <a:pt x="1468" y="100"/>
                  <a:pt x="1509" y="50"/>
                </a:cubicBezTo>
                <a:cubicBezTo>
                  <a:pt x="1550" y="0"/>
                  <a:pt x="1514" y="43"/>
                  <a:pt x="1515" y="41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3"/>
          <p:cNvSpPr/>
          <p:nvPr/>
        </p:nvSpPr>
        <p:spPr>
          <a:xfrm>
            <a:off x="6012000" y="414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M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3851280" y="1908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DENTIFICAZIONE IN M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55556E-006 L 0.02187 0.00023 E">
                                      <p:cBhvr>
                                        <p:cTn id="33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187 0.00023 L 0.25312 0.00023 L 0.26354 -0.00116 L 0.27083 -0.00116 E">
                                      <p:cBhvr>
                                        <p:cTn id="34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0:26:04Z</dcterms:created>
  <dc:creator>INFN</dc:creator>
  <dc:description/>
  <dc:language>en-US</dc:language>
  <cp:lastModifiedBy>Librizzi Francesco</cp:lastModifiedBy>
  <dcterms:modified xsi:type="dcterms:W3CDTF">2012-02-08T17:06:25Z</dcterms:modified>
  <cp:revision>85</cp:revision>
  <dc:subject/>
  <dc:title>Diapositiva 1</dc:title>
</cp:coreProperties>
</file>